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4.png" ContentType="image/png"/>
  <Override PartName="/ppt/media/image12.wmf" ContentType="image/x-wmf"/>
  <Override PartName="/ppt/media/image17.wmf" ContentType="image/x-wmf"/>
  <Override PartName="/ppt/media/image9.png" ContentType="image/png"/>
  <Override PartName="/ppt/media/image8.png" ContentType="image/png"/>
  <Override PartName="/ppt/media/image16.wmf" ContentType="image/x-wmf"/>
  <Override PartName="/ppt/media/image13.png" ContentType="image/png"/>
  <Override PartName="/ppt/media/image10.gif" ContentType="image/gif"/>
  <Override PartName="/ppt/media/image32.jpeg" ContentType="image/jpeg"/>
  <Override PartName="/ppt/media/image11.png" ContentType="image/png"/>
  <Override PartName="/ppt/media/image6.wmf" ContentType="image/x-wmf"/>
  <Override PartName="/ppt/media/image34.wmf" ContentType="image/x-wmf"/>
  <Override PartName="/ppt/media/image14.png" ContentType="image/png"/>
  <Override PartName="/ppt/media/image35.wmf" ContentType="image/x-wmf"/>
  <Override PartName="/ppt/media/image15.png" ContentType="image/png"/>
  <Override PartName="/ppt/media/image36.png" ContentType="image/png"/>
  <Override PartName="/ppt/media/image37.png" ContentType="image/png"/>
  <Override PartName="/ppt/media/image7.png" ContentType="image/png"/>
  <Override PartName="/ppt/media/image5.png" ContentType="image/png"/>
  <Override PartName="/ppt/media/image31.wmf" ContentType="image/x-wmf"/>
  <Override PartName="/ppt/media/image28.png" ContentType="image/png"/>
  <Override PartName="/ppt/media/image33.wmf" ContentType="image/x-wmf"/>
  <Override PartName="/ppt/media/image29.jpeg" ContentType="image/jpeg"/>
  <Override PartName="/ppt/media/image3.jpeg" ContentType="image/jpeg"/>
  <Override PartName="/ppt/media/image30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9EE0-A926-4BA7-A37C-599A24EF5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2C29-8D33-4D91-A060-D1CCC1B28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6C62-3573-4CB5-93C3-4C2A3658F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8F0E-6F62-48CD-891B-37A5ABD27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DD10-4AEC-4646-BEA8-B52174C05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7819-9639-434B-B874-FD447273A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1E65-11FE-4D8A-B307-3E9370DF2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DE5B-C3BB-43DB-80E7-CDE7D3244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A118-A41A-4571-8A16-B428C122C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D672-4CE9-4ABA-80DB-EB468E28F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041B-0638-466D-8831-5C690EC3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CBAB-3C2D-44C4-96F0-4B258174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0608B-9831-451E-9A71-AD8BCBC05A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jpeg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27280" y="1989000"/>
            <a:ext cx="338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1484280"/>
            <a:ext cx="51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990099"/>
                </a:solidFill>
                <a:latin typeface="Arial"/>
              </a:rPr>
              <a:t>Beta beam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1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acques Bouch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EA Salay/ APC Pa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258920" y="2997360"/>
            <a:ext cx="66960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asics of beta b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baseline  CERN scen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igher energy beta b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ther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93080" y="0"/>
            <a:ext cx="2050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OF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ern, 18/10/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820360" cy="680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296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956720" y="602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6</a:t>
            </a:r>
            <a:r>
              <a:rPr b="0" lang="en-GB" sz="18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372360" y="602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0" lang="en-GB" sz="18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58136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0.5</a:t>
            </a:r>
            <a:r>
              <a:rPr b="0" lang="en-GB" sz="18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6588000" y="5300280"/>
            <a:ext cx="0" cy="2890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8172360" y="5300280"/>
            <a:ext cx="0" cy="2890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1280" y="4724280"/>
            <a:ext cx="28872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11280" y="3573360"/>
            <a:ext cx="28872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335772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3</a:t>
            </a:r>
            <a:r>
              <a:rPr b="0" lang="en-GB" sz="18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5508720" y="5300280"/>
            <a:ext cx="0" cy="2890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64000" y="60213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0" lang="en-GB" sz="18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4360" y="5950080"/>
            <a:ext cx="3743280" cy="36828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SPL= 10 x T2K1  + sensitivity on </a:t>
            </a:r>
            <a:r>
              <a:rPr b="0" lang="en-GB" sz="1800" spc="-1" strike="noStrike">
                <a:solidFill>
                  <a:srgbClr val="663300"/>
                </a:solidFill>
                <a:latin typeface="Symbol"/>
                <a:ea typeface="Symbol"/>
              </a:rPr>
              <a:t>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4360" y="6453360"/>
            <a:ext cx="4608360" cy="3682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Same performance as T2K2 (megat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to overcome superbeam limitation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4000" y="1628640"/>
            <a:ext cx="8567640" cy="46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Main proble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L protons produce less negative pions, so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less antineutri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tineutrino cross-sec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~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5 times small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than neutri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 10 SPL years have to be shared  as  ~ 2 neutrino + 8 antineutrino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  <a:ea typeface="Arial"/>
              </a:rPr>
              <a:t>The solu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e 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beam to study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scillation and run it 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  <a:ea typeface="Arial"/>
              </a:rPr>
              <a:t>SIMULTANEOUS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th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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beam from S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ar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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T asymetry, equivalent to CP asymet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  <a:ea typeface="Arial"/>
              </a:rPr>
              <a:t>THIS WAS THE INITIAL MOTIVATION FOR A BETA B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ETA B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4360" y="1268280"/>
            <a:ext cx="8086680" cy="61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Concept proposed by Piero Zucchel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duce radioactive ions (ISOL techniq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celerate them in the CERN accelerator complex up to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f order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ore ions in a storage ring with long straight sections aimed at a far det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Advant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rongly focussed neutrino beam due to small Q value of beta dec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quality factor 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Q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ry pure flavour composition (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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contamin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~ 10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4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fectly known energy spect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Baseline scenario first studied at CERN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Mats Lindroos and collaborato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and now part of the EURISOL T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Strong synergy between beta beams and EURISOL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7991280" cy="9079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 production from 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(n,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560" y="53337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marL="198720" indent="-198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verter technology preferred to direct irradiation (heat transfer and efficient cooling allows higher power compared to insulating Be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e production rate is ~2x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ions/s (dc) for ~200 kW on targ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5916600" cy="41482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04920" y="2286000"/>
            <a:ext cx="3657600" cy="7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verter technology: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J. Nolen, NPA 701 (2002) 312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27280" y="127080"/>
            <a:ext cx="5790960" cy="8380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18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 p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295280"/>
            <a:ext cx="670572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allation of close-by target nucl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g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p, 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18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verter technology cannot be used; the beam hits directly the magnesium oxide targ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duction rate for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18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 is ~ 1x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ions/s (dc) for ~200 kW on targ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19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 can be produced with one order of magnitude higher intensity but the half-life is 17 second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04760" y="284040"/>
            <a:ext cx="716760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Arial"/>
              </a:rPr>
              <a:t>Beta-beam base line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78483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Strategy for the conceptual design stud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should be based on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known technolog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oid large number of technology jumps, requiring major and costly R&amp;D effor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Re-u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erever possible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existing infrastruct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i.e. accelerators) for the “first stage” base line desig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Major ingredi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ISO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echnique for production of radioactive 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CERN P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P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ccelerators for accel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ed ions: 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-1" strike="noStrike" baseline="30000">
                <a:solidFill>
                  <a:srgbClr val="cc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anti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lang="en-US" sz="2000" spc="-1" strike="noStrike" baseline="30000">
                <a:solidFill>
                  <a:srgbClr val="cc0000"/>
                </a:solidFill>
                <a:latin typeface="Arial"/>
              </a:rPr>
              <a:t>18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6216480"/>
            <a:ext cx="3889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.Benedikt    CERN-ISS22/9/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31880" y="284040"/>
            <a:ext cx="7758000" cy="11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ta-beam baseline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613480" y="5048280"/>
            <a:ext cx="1143000" cy="1079640"/>
          </a:xfrm>
          <a:custGeom>
            <a:avLst/>
            <a:gdLst/>
            <a:ahLst/>
            <a:rect l="l" t="t" r="r" b="b"/>
            <a:pathLst>
              <a:path w="680" h="680">
                <a:moveTo>
                  <a:pt x="104" y="0"/>
                </a:moveTo>
                <a:cubicBezTo>
                  <a:pt x="52" y="116"/>
                  <a:pt x="0" y="232"/>
                  <a:pt x="8" y="336"/>
                </a:cubicBezTo>
                <a:cubicBezTo>
                  <a:pt x="16" y="440"/>
                  <a:pt x="80" y="568"/>
                  <a:pt x="152" y="624"/>
                </a:cubicBezTo>
                <a:cubicBezTo>
                  <a:pt x="224" y="680"/>
                  <a:pt x="352" y="680"/>
                  <a:pt x="440" y="672"/>
                </a:cubicBezTo>
                <a:cubicBezTo>
                  <a:pt x="528" y="664"/>
                  <a:pt x="604" y="620"/>
                  <a:pt x="680" y="576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838600" y="4064040"/>
            <a:ext cx="674640" cy="1127160"/>
          </a:xfrm>
          <a:custGeom>
            <a:avLst/>
            <a:gdLst/>
            <a:ahLst/>
            <a:rect l="l" t="t" r="r" b="b"/>
            <a:pathLst>
              <a:path w="641" h="963">
                <a:moveTo>
                  <a:pt x="0" y="963"/>
                </a:moveTo>
                <a:lnTo>
                  <a:pt x="641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181560" y="3670200"/>
            <a:ext cx="99072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Neutrino Source</a:t>
            </a: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Decay 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1040" y="3027240"/>
            <a:ext cx="1562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Ion production</a:t>
            </a: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ISOL target &amp;   Ion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2343240"/>
            <a:ext cx="1495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Proton Driver</a:t>
            </a: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P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3352680"/>
            <a:ext cx="1295280" cy="23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Decay 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= 1500 T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B = ~5 T          C = ~7000 m     L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 Unicode MS"/>
              </a:rPr>
              <a:t>ss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= ~2500 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000000"/>
                </a:solidFill>
                <a:latin typeface="Arial Unicode MS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He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= 100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 Unicode MS"/>
              </a:rPr>
              <a:t>18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Ne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=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130800" y="2610000"/>
            <a:ext cx="1117080" cy="1005480"/>
            <a:chOff x="6130800" y="2610000"/>
            <a:chExt cx="1117080" cy="1005480"/>
          </a:xfrm>
        </p:grpSpPr>
        <p:sp>
          <p:nvSpPr>
            <p:cNvPr id="163" name=""/>
            <p:cNvSpPr/>
            <p:nvPr/>
          </p:nvSpPr>
          <p:spPr>
            <a:xfrm>
              <a:off x="6131160" y="2610000"/>
              <a:ext cx="1116720" cy="1005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6130800" y="2610000"/>
              <a:ext cx="1116720" cy="1005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130800" y="4905000"/>
            <a:ext cx="1117080" cy="1057320"/>
            <a:chOff x="6130800" y="4905000"/>
            <a:chExt cx="1117080" cy="1057320"/>
          </a:xfrm>
        </p:grpSpPr>
        <p:sp>
          <p:nvSpPr>
            <p:cNvPr id="166" name=""/>
            <p:cNvSpPr/>
            <p:nvPr/>
          </p:nvSpPr>
          <p:spPr>
            <a:xfrm flipV="1">
              <a:off x="6131160" y="4904640"/>
              <a:ext cx="1116720" cy="105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 flipV="1">
              <a:off x="6130800" y="4904640"/>
              <a:ext cx="1116720" cy="105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7248600" y="3112920"/>
            <a:ext cx="0" cy="2320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130800" y="3112920"/>
            <a:ext cx="0" cy="2320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438360" y="3289320"/>
            <a:ext cx="2486160" cy="2438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04720" y="5353200"/>
            <a:ext cx="1562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Acceleration to medium energy</a:t>
            </a: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063880" y="5651640"/>
            <a:ext cx="272880" cy="304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135160" y="5484960"/>
            <a:ext cx="174600" cy="176040"/>
          </a:xfrm>
          <a:custGeom>
            <a:avLst/>
            <a:gdLst/>
            <a:ahLst/>
            <a:rect l="l" t="t" r="r" b="b"/>
            <a:pathLst>
              <a:path w="65" h="51">
                <a:moveTo>
                  <a:pt x="65" y="0"/>
                </a:moveTo>
                <a:lnTo>
                  <a:pt x="0" y="5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95360" y="5194440"/>
            <a:ext cx="533520" cy="722160"/>
          </a:xfrm>
          <a:custGeom>
            <a:avLst/>
            <a:gdLst/>
            <a:ahLst/>
            <a:rect l="l" t="t" r="r" b="b"/>
            <a:pathLst>
              <a:path w="149" h="182">
                <a:moveTo>
                  <a:pt x="0" y="182"/>
                </a:moveTo>
                <a:lnTo>
                  <a:pt x="149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770200" y="5099040"/>
            <a:ext cx="5317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867040" y="2496960"/>
            <a:ext cx="28954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Acceleration to final ener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PS &amp; S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7251840" y="2304720"/>
            <a:ext cx="0" cy="1066680"/>
          </a:xfrm>
          <a:prstGeom prst="line">
            <a:avLst/>
          </a:prstGeom>
          <a:ln cap="rnd" w="50760">
            <a:solidFill>
              <a:srgbClr val="ff0000"/>
            </a:solidFill>
            <a:custDash>
              <a:ds d="100000" sp="1000"/>
            </a:custDash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334200" y="2143080"/>
            <a:ext cx="224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Beam to  experi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305080" y="2743200"/>
            <a:ext cx="120600" cy="2743200"/>
          </a:xfrm>
          <a:custGeom>
            <a:avLst/>
            <a:gdLst/>
            <a:ahLst/>
            <a:rect l="l" t="t" r="r" b="b"/>
            <a:pathLst>
              <a:path w="1" h="233">
                <a:moveTo>
                  <a:pt x="0" y="0"/>
                </a:moveTo>
                <a:lnTo>
                  <a:pt x="0" y="233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19400" y="4062240"/>
            <a:ext cx="152280" cy="1573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09680" y="4467240"/>
            <a:ext cx="181080" cy="5842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71880" y="2305080"/>
            <a:ext cx="247320" cy="6094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07960" y="4549680"/>
            <a:ext cx="1673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Ion acceleration</a:t>
            </a: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ina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04720" y="3857760"/>
            <a:ext cx="1714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Beam preparation</a:t>
            </a: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CR pul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84480" y="3224160"/>
            <a:ext cx="247680" cy="468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95360" y="178596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Ion 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314880" y="178596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ccel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905440" y="17812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Neutrino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04720" y="1362240"/>
            <a:ext cx="202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Low-energy 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552920" y="139068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High-energy 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6560" y="1295280"/>
            <a:ext cx="8182080" cy="497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57200" y="1314360"/>
            <a:ext cx="2092320" cy="3962520"/>
          </a:xfrm>
          <a:custGeom>
            <a:avLst/>
            <a:gdLst/>
            <a:ahLst/>
            <a:rect l="l" t="t" r="r" b="b"/>
            <a:pathLst>
              <a:path w="1344" h="2496">
                <a:moveTo>
                  <a:pt x="0" y="2496"/>
                </a:moveTo>
                <a:lnTo>
                  <a:pt x="1344" y="2496"/>
                </a:lnTo>
                <a:lnTo>
                  <a:pt x="1344" y="0"/>
                </a:lnTo>
              </a:path>
            </a:pathLst>
          </a:custGeom>
          <a:noFill/>
          <a:ln w="255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8360" y="6481800"/>
            <a:ext cx="3889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.Benedikt    CERN-ISS22/9/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85560" y="142560"/>
            <a:ext cx="655308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om dc to very short bun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46080" y="1066680"/>
            <a:ext cx="8919720" cy="5303160"/>
            <a:chOff x="46080" y="1066680"/>
            <a:chExt cx="8919720" cy="5303160"/>
          </a:xfrm>
        </p:grpSpPr>
        <p:sp>
          <p:nvSpPr>
            <p:cNvPr id="196" name=""/>
            <p:cNvSpPr/>
            <p:nvPr/>
          </p:nvSpPr>
          <p:spPr>
            <a:xfrm>
              <a:off x="1514160" y="1295280"/>
              <a:ext cx="5628960" cy="774720"/>
            </a:xfrm>
            <a:custGeom>
              <a:avLst/>
              <a:gdLst/>
              <a:ahLst/>
              <a:rect l="l" t="t" r="r" b="b"/>
              <a:pathLst>
                <a:path w="2160" h="576">
                  <a:moveTo>
                    <a:pt x="0" y="576"/>
                  </a:moveTo>
                  <a:lnTo>
                    <a:pt x="48" y="528"/>
                  </a:lnTo>
                  <a:lnTo>
                    <a:pt x="144" y="528"/>
                  </a:lnTo>
                  <a:lnTo>
                    <a:pt x="1392" y="0"/>
                  </a:lnTo>
                  <a:lnTo>
                    <a:pt x="1488" y="0"/>
                  </a:lnTo>
                  <a:lnTo>
                    <a:pt x="2160" y="57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1493640" y="1295280"/>
              <a:ext cx="0" cy="77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493640" y="2066760"/>
              <a:ext cx="746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446520" y="6202440"/>
              <a:ext cx="182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103120" y="6197760"/>
              <a:ext cx="434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157880" y="6019920"/>
              <a:ext cx="43128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 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1468080" y="2514600"/>
              <a:ext cx="446040" cy="304920"/>
              <a:chOff x="1468080" y="2514600"/>
              <a:chExt cx="446040" cy="304920"/>
            </a:xfrm>
          </p:grpSpPr>
          <p:sp>
            <p:nvSpPr>
              <p:cNvPr id="203" name=""/>
              <p:cNvSpPr/>
              <p:nvPr/>
            </p:nvSpPr>
            <p:spPr>
              <a:xfrm>
                <a:off x="1468080" y="2514600"/>
                <a:ext cx="504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531080" y="2514600"/>
                <a:ext cx="504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594080" y="2514600"/>
                <a:ext cx="504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657080" y="2514600"/>
                <a:ext cx="504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720080" y="2514600"/>
                <a:ext cx="504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783080" y="2514600"/>
                <a:ext cx="504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846080" y="2514600"/>
                <a:ext cx="504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909080" y="2514600"/>
                <a:ext cx="504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 flipH="1" flipV="1">
              <a:off x="960120" y="3546360"/>
              <a:ext cx="334800" cy="238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66640" y="3152880"/>
              <a:ext cx="1294920" cy="393480"/>
            </a:xfrm>
            <a:custGeom>
              <a:avLst/>
              <a:gdLst/>
              <a:ahLst/>
              <a:rect l="l" t="t" r="r" b="b"/>
              <a:pathLst>
                <a:path w="816" h="336">
                  <a:moveTo>
                    <a:pt x="0" y="336"/>
                  </a:moveTo>
                  <a:lnTo>
                    <a:pt x="48" y="288"/>
                  </a:lnTo>
                  <a:lnTo>
                    <a:pt x="336" y="288"/>
                  </a:lnTo>
                  <a:lnTo>
                    <a:pt x="672" y="0"/>
                  </a:lnTo>
                  <a:lnTo>
                    <a:pt x="720" y="0"/>
                  </a:lnTo>
                  <a:lnTo>
                    <a:pt x="816" y="33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379520" y="2147760"/>
              <a:ext cx="79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x1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350640" y="30128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50640" y="3622680"/>
              <a:ext cx="205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460160" y="2441520"/>
              <a:ext cx="4791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151000" y="3317760"/>
              <a:ext cx="40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6080" y="3081240"/>
              <a:ext cx="40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45840" y="3522600"/>
              <a:ext cx="45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55560" y="3117960"/>
              <a:ext cx="76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 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246880" y="2057400"/>
              <a:ext cx="40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188720" y="1363680"/>
              <a:ext cx="40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341360" y="3241800"/>
              <a:ext cx="532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855960" y="1668600"/>
              <a:ext cx="532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P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392120" y="2095560"/>
              <a:ext cx="666360" cy="152280"/>
            </a:xfrm>
            <a:custGeom>
              <a:avLst/>
              <a:gdLst/>
              <a:ahLst/>
              <a:rect l="l" t="t" r="r" b="b"/>
              <a:pathLst>
                <a:path w="1104" h="96">
                  <a:moveTo>
                    <a:pt x="0" y="96"/>
                  </a:moveTo>
                  <a:lnTo>
                    <a:pt x="48" y="48"/>
                  </a:lnTo>
                  <a:lnTo>
                    <a:pt x="480" y="48"/>
                  </a:lnTo>
                  <a:lnTo>
                    <a:pt x="528" y="0"/>
                  </a:lnTo>
                  <a:lnTo>
                    <a:pt x="576" y="48"/>
                  </a:lnTo>
                  <a:lnTo>
                    <a:pt x="1056" y="48"/>
                  </a:lnTo>
                  <a:lnTo>
                    <a:pt x="1104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rot="10800000">
              <a:off x="1353600" y="2796840"/>
              <a:ext cx="666360" cy="152280"/>
            </a:xfrm>
            <a:custGeom>
              <a:avLst/>
              <a:gdLst/>
              <a:ahLst/>
              <a:rect l="l" t="t" r="r" b="b"/>
              <a:pathLst>
                <a:path w="1104" h="96">
                  <a:moveTo>
                    <a:pt x="0" y="96"/>
                  </a:moveTo>
                  <a:lnTo>
                    <a:pt x="48" y="48"/>
                  </a:lnTo>
                  <a:lnTo>
                    <a:pt x="480" y="48"/>
                  </a:lnTo>
                  <a:lnTo>
                    <a:pt x="528" y="0"/>
                  </a:lnTo>
                  <a:lnTo>
                    <a:pt x="576" y="48"/>
                  </a:lnTo>
                  <a:lnTo>
                    <a:pt x="1056" y="48"/>
                  </a:lnTo>
                  <a:lnTo>
                    <a:pt x="1104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446520" y="5465880"/>
              <a:ext cx="1828440" cy="152280"/>
            </a:xfrm>
            <a:prstGeom prst="rect">
              <a:avLst/>
            </a:prstGeom>
            <a:solidFill>
              <a:srgbClr val="00ff00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599160" y="5160960"/>
              <a:ext cx="7560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827760" y="5160960"/>
              <a:ext cx="7560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056360" y="5160960"/>
              <a:ext cx="7560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84960" y="5160960"/>
              <a:ext cx="7560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513560" y="5160960"/>
              <a:ext cx="7560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742160" y="5160960"/>
              <a:ext cx="7560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970760" y="5160960"/>
              <a:ext cx="7560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199360" y="5160960"/>
              <a:ext cx="7560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446520" y="5846760"/>
              <a:ext cx="1828440" cy="152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624360" y="4551480"/>
              <a:ext cx="7596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852960" y="4551480"/>
              <a:ext cx="7596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081560" y="4551480"/>
              <a:ext cx="7596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310160" y="4551480"/>
              <a:ext cx="7596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538760" y="4551480"/>
              <a:ext cx="7596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767360" y="4551480"/>
              <a:ext cx="7596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995960" y="4551480"/>
              <a:ext cx="7596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224560" y="4551480"/>
              <a:ext cx="7596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700680" y="3963960"/>
              <a:ext cx="1872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929280" y="3963960"/>
              <a:ext cx="1872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157880" y="3963960"/>
              <a:ext cx="1872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386480" y="3963960"/>
              <a:ext cx="1872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615080" y="3963960"/>
              <a:ext cx="1872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843680" y="3963960"/>
              <a:ext cx="1872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072280" y="3963960"/>
              <a:ext cx="1872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300880" y="3963960"/>
              <a:ext cx="1872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7145280" y="2519280"/>
              <a:ext cx="424440" cy="304920"/>
              <a:chOff x="7145280" y="2519280"/>
              <a:chExt cx="424440" cy="304920"/>
            </a:xfrm>
          </p:grpSpPr>
          <p:sp>
            <p:nvSpPr>
              <p:cNvPr id="254" name=""/>
              <p:cNvSpPr/>
              <p:nvPr/>
            </p:nvSpPr>
            <p:spPr>
              <a:xfrm>
                <a:off x="7145280" y="2519280"/>
                <a:ext cx="468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205040" y="2519280"/>
                <a:ext cx="468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265160" y="2519280"/>
                <a:ext cx="468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325280" y="2519280"/>
                <a:ext cx="468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385040" y="2519280"/>
                <a:ext cx="468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445160" y="2519280"/>
                <a:ext cx="468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505280" y="2519280"/>
                <a:ext cx="468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565040" y="2519280"/>
                <a:ext cx="468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6627600" y="3827520"/>
              <a:ext cx="1752120" cy="152280"/>
            </a:xfrm>
            <a:custGeom>
              <a:avLst/>
              <a:gdLst/>
              <a:ahLst/>
              <a:rect l="l" t="t" r="r" b="b"/>
              <a:pathLst>
                <a:path w="1104" h="96">
                  <a:moveTo>
                    <a:pt x="0" y="96"/>
                  </a:moveTo>
                  <a:lnTo>
                    <a:pt x="48" y="48"/>
                  </a:lnTo>
                  <a:lnTo>
                    <a:pt x="480" y="48"/>
                  </a:lnTo>
                  <a:lnTo>
                    <a:pt x="528" y="0"/>
                  </a:lnTo>
                  <a:lnTo>
                    <a:pt x="576" y="48"/>
                  </a:lnTo>
                  <a:lnTo>
                    <a:pt x="1056" y="48"/>
                  </a:lnTo>
                  <a:lnTo>
                    <a:pt x="1104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 flipV="1">
              <a:off x="7132320" y="3560400"/>
              <a:ext cx="334800" cy="237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738840" y="3166920"/>
              <a:ext cx="1294920" cy="393840"/>
            </a:xfrm>
            <a:custGeom>
              <a:avLst/>
              <a:gdLst/>
              <a:ahLst/>
              <a:rect l="l" t="t" r="r" b="b"/>
              <a:pathLst>
                <a:path w="816" h="336">
                  <a:moveTo>
                    <a:pt x="0" y="336"/>
                  </a:moveTo>
                  <a:lnTo>
                    <a:pt x="48" y="288"/>
                  </a:lnTo>
                  <a:lnTo>
                    <a:pt x="336" y="288"/>
                  </a:lnTo>
                  <a:lnTo>
                    <a:pt x="672" y="0"/>
                  </a:lnTo>
                  <a:lnTo>
                    <a:pt x="720" y="0"/>
                  </a:lnTo>
                  <a:lnTo>
                    <a:pt x="816" y="33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056360" y="2152800"/>
              <a:ext cx="76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x1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6522840" y="302724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522840" y="3637080"/>
              <a:ext cx="205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137360" y="2446200"/>
              <a:ext cx="45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323200" y="3332160"/>
              <a:ext cx="40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217920" y="3095640"/>
              <a:ext cx="40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818040" y="3537000"/>
              <a:ext cx="45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827760" y="3132000"/>
              <a:ext cx="76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 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513560" y="3255840"/>
              <a:ext cx="532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68960" y="2100240"/>
              <a:ext cx="634680" cy="152280"/>
            </a:xfrm>
            <a:custGeom>
              <a:avLst/>
              <a:gdLst/>
              <a:ahLst/>
              <a:rect l="l" t="t" r="r" b="b"/>
              <a:pathLst>
                <a:path w="1104" h="96">
                  <a:moveTo>
                    <a:pt x="0" y="96"/>
                  </a:moveTo>
                  <a:lnTo>
                    <a:pt x="48" y="48"/>
                  </a:lnTo>
                  <a:lnTo>
                    <a:pt x="480" y="48"/>
                  </a:lnTo>
                  <a:lnTo>
                    <a:pt x="528" y="0"/>
                  </a:lnTo>
                  <a:lnTo>
                    <a:pt x="576" y="48"/>
                  </a:lnTo>
                  <a:lnTo>
                    <a:pt x="1056" y="48"/>
                  </a:lnTo>
                  <a:lnTo>
                    <a:pt x="1104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0800000">
              <a:off x="7030440" y="2798640"/>
              <a:ext cx="634680" cy="152640"/>
            </a:xfrm>
            <a:custGeom>
              <a:avLst/>
              <a:gdLst/>
              <a:ahLst/>
              <a:rect l="l" t="t" r="r" b="b"/>
              <a:pathLst>
                <a:path w="1104" h="96">
                  <a:moveTo>
                    <a:pt x="0" y="96"/>
                  </a:moveTo>
                  <a:lnTo>
                    <a:pt x="48" y="48"/>
                  </a:lnTo>
                  <a:lnTo>
                    <a:pt x="480" y="48"/>
                  </a:lnTo>
                  <a:lnTo>
                    <a:pt x="528" y="0"/>
                  </a:lnTo>
                  <a:lnTo>
                    <a:pt x="576" y="48"/>
                  </a:lnTo>
                  <a:lnTo>
                    <a:pt x="1056" y="48"/>
                  </a:lnTo>
                  <a:lnTo>
                    <a:pt x="1104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370560" y="6075360"/>
              <a:ext cx="220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399160" y="5770440"/>
              <a:ext cx="40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6370560" y="378936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 flipV="1">
              <a:off x="7360560" y="2946240"/>
              <a:ext cx="456840" cy="152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684760" y="1066680"/>
              <a:ext cx="2361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x1 </a:t>
              </a: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 to decay r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(2x4 bunches of &lt;5 ns)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303520" y="1219320"/>
              <a:ext cx="304560" cy="75960"/>
            </a:xfrm>
            <a:custGeom>
              <a:avLst/>
              <a:gdLst/>
              <a:ahLst/>
              <a:rect l="l" t="t" r="r" b="b"/>
              <a:pathLst>
                <a:path w="192" h="48">
                  <a:moveTo>
                    <a:pt x="0" y="48"/>
                  </a:moveTo>
                  <a:lnTo>
                    <a:pt x="0" y="0"/>
                  </a:lnTo>
                  <a:lnTo>
                    <a:pt x="192" y="0"/>
                  </a:lnTo>
                </a:path>
              </a:pathLst>
            </a:custGeom>
            <a:noFill/>
            <a:ln w="507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560320" y="2971800"/>
              <a:ext cx="25905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S: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1 s flat bottom with 8 (16) injections. Acceleration in ~1 s  to top PS energy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535120" y="5811840"/>
              <a:ext cx="434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Target: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dc production during 1 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535120" y="5168880"/>
              <a:ext cx="36064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60 GHz ECR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: accumulation for 1/8 (1/16) s ejection of fully stripped ~20 </a:t>
              </a: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 pulse.              8 (16) batches during 1 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560320" y="3733920"/>
              <a:ext cx="29714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CS: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further bunching to ~100 ns  Acceleration to ~300 MeV/u.              8 (16) repetitions during 1 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560320" y="2209680"/>
              <a:ext cx="3809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PS: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injection of 4 + 4  bunches from PS. Acceleration to decay ring energy and ejection. Repetition time 8 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198360" y="3809880"/>
              <a:ext cx="4875840" cy="2559960"/>
              <a:chOff x="198360" y="3809880"/>
              <a:chExt cx="4875840" cy="2559960"/>
            </a:xfrm>
          </p:grpSpPr>
          <p:sp>
            <p:nvSpPr>
              <p:cNvPr id="288" name=""/>
              <p:cNvSpPr/>
              <p:nvPr/>
            </p:nvSpPr>
            <p:spPr>
              <a:xfrm>
                <a:off x="273960" y="6197760"/>
                <a:ext cx="1828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985320" y="6032520"/>
                <a:ext cx="431280" cy="33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1 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160160" y="6032520"/>
                <a:ext cx="431640" cy="33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7 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559960" y="4483080"/>
                <a:ext cx="25142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Post accelerator linac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: acceleration to ~100 MeV/u.     8 (16) repetitions during 1 s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73960" y="5486400"/>
                <a:ext cx="1828440" cy="152280"/>
              </a:xfrm>
              <a:prstGeom prst="rect">
                <a:avLst/>
              </a:prstGeom>
              <a:solidFill>
                <a:srgbClr val="00ff00">
                  <a:alpha val="3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26600" y="5181480"/>
                <a:ext cx="7560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55200" y="5181480"/>
                <a:ext cx="7560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883800" y="5181480"/>
                <a:ext cx="7560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112400" y="5181480"/>
                <a:ext cx="7560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341000" y="5181480"/>
                <a:ext cx="7560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569600" y="5181480"/>
                <a:ext cx="7560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798200" y="5181480"/>
                <a:ext cx="7560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026800" y="5181480"/>
                <a:ext cx="7560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73960" y="5867280"/>
                <a:ext cx="1828440" cy="1526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51800" y="4572000"/>
                <a:ext cx="7596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80400" y="4572000"/>
                <a:ext cx="7596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909000" y="4572000"/>
                <a:ext cx="7596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137600" y="4572000"/>
                <a:ext cx="7596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366200" y="4572000"/>
                <a:ext cx="7596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94800" y="4572000"/>
                <a:ext cx="7596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823400" y="4572000"/>
                <a:ext cx="7596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052000" y="4572000"/>
                <a:ext cx="7596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28120" y="3984480"/>
                <a:ext cx="18720" cy="457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56720" y="3984480"/>
                <a:ext cx="18720" cy="457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985320" y="3984480"/>
                <a:ext cx="18720" cy="457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213920" y="3984480"/>
                <a:ext cx="18720" cy="457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442520" y="3984480"/>
                <a:ext cx="18720" cy="457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671120" y="3984480"/>
                <a:ext cx="18720" cy="457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899720" y="3984480"/>
                <a:ext cx="18720" cy="457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128320" y="3984480"/>
                <a:ext cx="18720" cy="457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55040" y="3848040"/>
                <a:ext cx="1752120" cy="152640"/>
              </a:xfrm>
              <a:custGeom>
                <a:avLst/>
                <a:gdLst/>
                <a:ahLst/>
                <a:rect l="l" t="t" r="r" b="b"/>
                <a:pathLst>
                  <a:path w="1104" h="96">
                    <a:moveTo>
                      <a:pt x="0" y="96"/>
                    </a:moveTo>
                    <a:lnTo>
                      <a:pt x="48" y="48"/>
                    </a:lnTo>
                    <a:lnTo>
                      <a:pt x="480" y="48"/>
                    </a:lnTo>
                    <a:lnTo>
                      <a:pt x="528" y="0"/>
                    </a:lnTo>
                    <a:lnTo>
                      <a:pt x="576" y="48"/>
                    </a:lnTo>
                    <a:lnTo>
                      <a:pt x="1056" y="48"/>
                    </a:lnTo>
                    <a:lnTo>
                      <a:pt x="1104" y="9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198360" y="6095880"/>
                <a:ext cx="2209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226600" y="5791320"/>
                <a:ext cx="409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V="1">
                <a:off x="198360" y="3809880"/>
                <a:ext cx="0" cy="228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7137360" y="1685880"/>
              <a:ext cx="1828440" cy="380880"/>
            </a:xfrm>
            <a:custGeom>
              <a:avLst/>
              <a:gdLst/>
              <a:ahLst/>
              <a:rect l="l" t="t" r="r" b="b"/>
              <a:pathLst>
                <a:path w="1152" h="240">
                  <a:moveTo>
                    <a:pt x="0" y="240"/>
                  </a:moveTo>
                  <a:lnTo>
                    <a:pt x="96" y="192"/>
                  </a:lnTo>
                  <a:lnTo>
                    <a:pt x="240" y="192"/>
                  </a:lnTo>
                  <a:lnTo>
                    <a:pt x="115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ral collection/acceleration sche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380880" y="2629080"/>
            <a:ext cx="7162920" cy="2133000"/>
            <a:chOff x="380880" y="2629080"/>
            <a:chExt cx="7162920" cy="2133000"/>
          </a:xfrm>
        </p:grpSpPr>
        <p:grpSp>
          <p:nvGrpSpPr>
            <p:cNvPr id="325" name=""/>
            <p:cNvGrpSpPr/>
            <p:nvPr/>
          </p:nvGrpSpPr>
          <p:grpSpPr>
            <a:xfrm>
              <a:off x="380880" y="4228920"/>
              <a:ext cx="5027400" cy="533160"/>
              <a:chOff x="380880" y="4228920"/>
              <a:chExt cx="5027400" cy="533160"/>
            </a:xfrm>
          </p:grpSpPr>
          <p:sp>
            <p:nvSpPr>
              <p:cNvPr id="326" name=""/>
              <p:cNvSpPr/>
              <p:nvPr/>
            </p:nvSpPr>
            <p:spPr>
              <a:xfrm>
                <a:off x="386280" y="4481280"/>
                <a:ext cx="502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80880" y="422892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096920" y="422892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815840" y="422892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534760" y="422892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250800" y="422892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970080" y="422892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689000" y="422892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408280" y="422892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1100160" y="3682800"/>
              <a:ext cx="5025600" cy="533160"/>
              <a:chOff x="1100160" y="3682800"/>
              <a:chExt cx="5025600" cy="533160"/>
            </a:xfrm>
          </p:grpSpPr>
          <p:sp>
            <p:nvSpPr>
              <p:cNvPr id="336" name=""/>
              <p:cNvSpPr/>
              <p:nvPr/>
            </p:nvSpPr>
            <p:spPr>
              <a:xfrm>
                <a:off x="1105560" y="3935160"/>
                <a:ext cx="50202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100160" y="368280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815840" y="368280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534760" y="368280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253320" y="368280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969360" y="368280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687920" y="368280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406840" y="368280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125760" y="368280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5" name=""/>
            <p:cNvSpPr/>
            <p:nvPr/>
          </p:nvSpPr>
          <p:spPr>
            <a:xfrm>
              <a:off x="1834920" y="3414600"/>
              <a:ext cx="5021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812960" y="31622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535120" y="31622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247920" y="31622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956040" y="31622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698720" y="31622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418000" y="31622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126120" y="31622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856200" y="31622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522520" y="2881080"/>
              <a:ext cx="5021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531880" y="262908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243240" y="262908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967200" y="262908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697280" y="262908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413320" y="262908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132240" y="262908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851520" y="262908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543800" y="262908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393840" y="445788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248520" y="43815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372360" y="371628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10280" y="32385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696080" y="255276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Decay 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457200" y="3924000"/>
            <a:ext cx="609120" cy="533160"/>
            <a:chOff x="457200" y="3924000"/>
            <a:chExt cx="609120" cy="533160"/>
          </a:xfrm>
        </p:grpSpPr>
        <p:sp>
          <p:nvSpPr>
            <p:cNvPr id="369" name=""/>
            <p:cNvSpPr/>
            <p:nvPr/>
          </p:nvSpPr>
          <p:spPr>
            <a:xfrm flipV="1">
              <a:off x="457200" y="3924000"/>
              <a:ext cx="152280" cy="5331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609480" y="3924000"/>
              <a:ext cx="151920" cy="5331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761760" y="3924000"/>
              <a:ext cx="151920" cy="5331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914040" y="3924000"/>
              <a:ext cx="152280" cy="5331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5425920" y="444492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0000">
              <a:alpha val="4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5489640" y="3911760"/>
            <a:ext cx="609120" cy="532800"/>
            <a:chOff x="5489640" y="3911760"/>
            <a:chExt cx="609120" cy="532800"/>
          </a:xfrm>
        </p:grpSpPr>
        <p:sp>
          <p:nvSpPr>
            <p:cNvPr id="375" name=""/>
            <p:cNvSpPr/>
            <p:nvPr/>
          </p:nvSpPr>
          <p:spPr>
            <a:xfrm flipV="1">
              <a:off x="5489640" y="3911760"/>
              <a:ext cx="152280" cy="5328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5641920" y="3911760"/>
              <a:ext cx="151920" cy="5328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5794200" y="3911760"/>
              <a:ext cx="151920" cy="5328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5946480" y="3911760"/>
              <a:ext cx="152280" cy="5328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"/>
          <p:cNvSpPr/>
          <p:nvPr/>
        </p:nvSpPr>
        <p:spPr>
          <a:xfrm flipV="1">
            <a:off x="1143000" y="3429000"/>
            <a:ext cx="692280" cy="4953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484360" y="1700280"/>
            <a:ext cx="137160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5069"/>
              <a:gd name="adj5" fmla="val 319273"/>
              <a:gd name="adj6" fmla="val -6562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Ramp time 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80880" y="56008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086600" y="575316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ime 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28600" y="57531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334120" y="57405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80880" y="5479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448240" y="5477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1258920" y="4797360"/>
            <a:ext cx="4191120" cy="762120"/>
            <a:chOff x="1258920" y="4797360"/>
            <a:chExt cx="4191120" cy="762120"/>
          </a:xfrm>
        </p:grpSpPr>
        <p:sp>
          <p:nvSpPr>
            <p:cNvPr id="388" name=""/>
            <p:cNvSpPr/>
            <p:nvPr/>
          </p:nvSpPr>
          <p:spPr>
            <a:xfrm rot="5400000">
              <a:off x="3163680" y="3273120"/>
              <a:ext cx="381240" cy="4191120"/>
            </a:xfrm>
            <a:custGeom>
              <a:avLst/>
              <a:gdLst>
                <a:gd name="textAreaLeft" fmla="*/ 243720 w 381240"/>
                <a:gd name="textAreaRight" fmla="*/ 381600 w 381240"/>
                <a:gd name="textAreaTop" fmla="*/ 109080 h 4191120"/>
                <a:gd name="textAreaBottom" fmla="*/ 4082040 h 419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630520" y="47973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Times New Roman"/>
                </a:rPr>
                <a:t>No colle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V="1">
            <a:off x="1835280" y="2852280"/>
            <a:ext cx="3600360" cy="57636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486400" y="1600200"/>
            <a:ext cx="2286000" cy="1790640"/>
            <a:chOff x="5486400" y="1600200"/>
            <a:chExt cx="2286000" cy="1790640"/>
          </a:xfrm>
        </p:grpSpPr>
        <p:sp>
          <p:nvSpPr>
            <p:cNvPr id="392" name=""/>
            <p:cNvSpPr/>
            <p:nvPr/>
          </p:nvSpPr>
          <p:spPr>
            <a:xfrm>
              <a:off x="5486400" y="2933640"/>
              <a:ext cx="14479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553440" y="1600200"/>
              <a:ext cx="1218960" cy="609480"/>
            </a:xfrm>
            <a:prstGeom prst="borderCallout2">
              <a:avLst>
                <a:gd name="adj1" fmla="val 18750"/>
                <a:gd name="adj2" fmla="val -8333"/>
                <a:gd name="adj3" fmla="val 18518"/>
                <a:gd name="adj4" fmla="val -28384"/>
                <a:gd name="adj5" fmla="val 236981"/>
                <a:gd name="adj6" fmla="val -5117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Times New Roman"/>
                </a:rPr>
                <a:t>Reset time SP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258920" y="4508640"/>
            <a:ext cx="4114800" cy="304560"/>
          </a:xfrm>
          <a:prstGeom prst="rightArrow">
            <a:avLst>
              <a:gd name="adj1" fmla="val 50000"/>
              <a:gd name="adj2" fmla="val 337766"/>
            </a:avLst>
          </a:prstGeom>
          <a:solidFill>
            <a:srgbClr val="ff0000">
              <a:alpha val="4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5950080"/>
            <a:ext cx="60120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</a:rPr>
              <a:t>Typically (for </a:t>
            </a:r>
            <a:r>
              <a:rPr b="1" lang="en-GB" sz="1600" spc="-1" strike="noStrike" baseline="30000">
                <a:solidFill>
                  <a:srgbClr val="cc0000"/>
                </a:solidFill>
                <a:latin typeface="Arial"/>
              </a:rPr>
              <a:t>6</a:t>
            </a:r>
            <a:r>
              <a:rPr b="1" lang="en-GB" sz="1600" spc="-1" strike="noStrike">
                <a:solidFill>
                  <a:srgbClr val="cc0000"/>
                </a:solidFill>
                <a:latin typeface="Arial"/>
              </a:rPr>
              <a:t>He): 1 out of 8 produ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ç</a:t>
            </a:r>
            <a:r>
              <a:rPr b="1" lang="en-GB" sz="1600" spc="-1" strike="noStrike">
                <a:solidFill>
                  <a:srgbClr val="cc0000"/>
                </a:solidFill>
                <a:latin typeface="Arial"/>
              </a:rPr>
              <a:t>able ions is collect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</a:rPr>
              <a:t>1 out of 4 collected ions makes it to the ring (factor 2 for decays, factor 2 for transmission losses between machin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940360" y="6308640"/>
            <a:ext cx="2952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apted from M.Lindro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50920" y="1989000"/>
            <a:ext cx="1512720" cy="3682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Main lo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971640" y="2349360"/>
            <a:ext cx="431640" cy="13669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572000" y="1844640"/>
            <a:ext cx="114300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3611"/>
              <a:gd name="adj5" fmla="val 225000"/>
              <a:gd name="adj6" fmla="val -97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Ramp time S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684360" y="2349360"/>
            <a:ext cx="287280" cy="13669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878" t="27845" r="26558" b="-688"/>
          <a:stretch/>
        </p:blipFill>
        <p:spPr>
          <a:xfrm>
            <a:off x="-541440" y="2060640"/>
            <a:ext cx="5149800" cy="36417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403280" y="5734080"/>
            <a:ext cx="2303640" cy="611640"/>
          </a:xfrm>
          <a:prstGeom prst="rect">
            <a:avLst/>
          </a:prstGeom>
          <a:solidFill>
            <a:srgbClr val="ff9900">
              <a:alpha val="30000"/>
            </a:srgbClr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Oscillation maximum seen at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~ 30 km/MeV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0920" y="692280"/>
            <a:ext cx="3960720" cy="13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lar oscillation: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isappea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= 8 1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eV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=0.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356000" y="692280"/>
            <a:ext cx="4464000" cy="13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tmospheric oscillation: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isappea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= 2.5 1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eV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= 1.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627280" y="1628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KAM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435640" y="162864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64000" y="3429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rcRect l="41702" t="17657" r="0" b="0"/>
          <a:stretch/>
        </p:blipFill>
        <p:spPr>
          <a:xfrm>
            <a:off x="4462560" y="1916280"/>
            <a:ext cx="4681440" cy="4552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364000" y="3429000"/>
            <a:ext cx="3240360" cy="0"/>
          </a:xfrm>
          <a:prstGeom prst="line">
            <a:avLst/>
          </a:prstGeom>
          <a:ln w="1908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71640" y="115920"/>
            <a:ext cx="70563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PRESENT EVIDENCE FOR OSCIL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6491160"/>
            <a:ext cx="35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Explains solar neutrino def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894200" y="6491160"/>
            <a:ext cx="42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Studied by MINOS, OPERA, ICA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85560" y="142560"/>
            <a:ext cx="655308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tion (in the SP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969840" y="1111320"/>
            <a:ext cx="7485120" cy="52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453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Goals -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915400" cy="367200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the base line design, the aims are (cf. Bouchez et al., NuFact’03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annual rate of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2.9 10</a:t>
            </a:r>
            <a:r>
              <a:rPr b="0" lang="en-US" sz="1800" spc="-1" strike="noStrike" baseline="30000">
                <a:solidFill>
                  <a:srgbClr val="cc0000"/>
                </a:solidFill>
                <a:latin typeface="Arial"/>
              </a:rPr>
              <a:t>18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anti-neutrin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) along one straight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annual rate of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1.1 10</a:t>
            </a:r>
            <a:r>
              <a:rPr b="0" lang="en-US" sz="1800" spc="-1" strike="noStrike" baseline="30000">
                <a:solidFill>
                  <a:srgbClr val="cc0000"/>
                </a:solidFill>
                <a:latin typeface="Arial"/>
              </a:rPr>
              <a:t>18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neutrin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) a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1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ways for a “normalized” year of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co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resent status is (after 8 months of the 4-year design study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Antineutrino r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nd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figures) 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have reached the design valu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ut  no safety margin is yet provided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Neutrino r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nd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 figures) are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one order of magnitude be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   desired performance. (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788000" y="476280"/>
            <a:ext cx="3889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.Benedikt    CERN-ISS 22/9/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50920" y="5229360"/>
            <a:ext cx="85690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*) for a single ISOL target,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U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ultip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urisol targets,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optimize colle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ime and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dd coo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decrease los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ue to incomplete stripping, </a:t>
            </a: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relax duty cycle as a last reso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. With present ideas, we could be off by 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only a factor of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468360" y="1484280"/>
            <a:ext cx="7488360" cy="29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UPERBEA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ETAB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"/>
              </a:rPr>
              <a:t>→ 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"/>
              </a:rPr>
              <a:t>e  </a:t>
            </a:r>
            <a:r>
              <a:rPr b="1" lang="en-GB" sz="2800" spc="-1" strike="noStrike">
                <a:solidFill>
                  <a:srgbClr val="000000"/>
                </a:solidFill>
                <a:latin typeface=""/>
              </a:rPr>
              <a:t>                              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"/>
              </a:rPr>
              <a:t>  →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"/>
              </a:rPr>
              <a:t>       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→ 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→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86920" y="274320"/>
            <a:ext cx="6480360" cy="85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Arial"/>
              </a:rPr>
              <a:t>Superbeam + betab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042920" y="3573360"/>
            <a:ext cx="28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124000" y="357336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651640" y="3573360"/>
            <a:ext cx="21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588000" y="357336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547640" y="2781360"/>
            <a:ext cx="503280" cy="576360"/>
          </a:xfrm>
          <a:prstGeom prst="upDownArrow">
            <a:avLst>
              <a:gd name="adj1" fmla="val 50000"/>
              <a:gd name="adj2" fmla="val 22798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156360" y="2781360"/>
            <a:ext cx="557280" cy="576360"/>
          </a:xfrm>
          <a:prstGeom prst="upDownArrow">
            <a:avLst>
              <a:gd name="adj1" fmla="val 50000"/>
              <a:gd name="adj2" fmla="val 2058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132000" y="3716280"/>
            <a:ext cx="1944720" cy="287280"/>
          </a:xfrm>
          <a:prstGeom prst="leftRightArrow">
            <a:avLst>
              <a:gd name="adj1" fmla="val 50000"/>
              <a:gd name="adj2" fmla="val 134762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132000" y="2276640"/>
            <a:ext cx="1944720" cy="287280"/>
          </a:xfrm>
          <a:prstGeom prst="leftRightArrow">
            <a:avLst>
              <a:gd name="adj1" fmla="val 50000"/>
              <a:gd name="adj2" fmla="val 134762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4057800">
            <a:off x="3947760" y="1663560"/>
            <a:ext cx="211320" cy="3024000"/>
          </a:xfrm>
          <a:prstGeom prst="upDownArrow">
            <a:avLst>
              <a:gd name="adj1" fmla="val 50000"/>
              <a:gd name="adj2" fmla="val 284876"/>
            </a:avLst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rot="1516800">
            <a:off x="2540160" y="3136680"/>
            <a:ext cx="2989080" cy="180720"/>
          </a:xfrm>
          <a:prstGeom prst="leftRightArrow">
            <a:avLst>
              <a:gd name="adj1" fmla="val 50000"/>
              <a:gd name="adj2" fmla="val 329265"/>
            </a:avLst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116000" y="4292640"/>
            <a:ext cx="62643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 ways of testing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C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000" spc="-1" strike="noStrike">
                <a:solidFill>
                  <a:srgbClr val="990099"/>
                </a:solidFill>
                <a:latin typeface="Arial"/>
              </a:rPr>
              <a:t>CPT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: redundancy and check of systema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11280" y="5229360"/>
            <a:ext cx="7345440" cy="116748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9900"/>
                </a:solidFill>
                <a:latin typeface="Arial"/>
              </a:rPr>
              <a:t>Furthermore: the small signal searched for with one beam is the bulk of events with the other bea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etter handle on detector response, strong added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64000" y="1268280"/>
            <a:ext cx="1439640" cy="785520"/>
          </a:xfrm>
          <a:prstGeom prst="rect">
            <a:avLst/>
          </a:prstGeom>
          <a:solidFill>
            <a:srgbClr val="ebf2ac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 beam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 det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Arial"/>
              </a:rPr>
              <a:t>Beta beam optim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84360" y="1844640"/>
            <a:ext cx="7775280" cy="31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Signa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1-ring mu-l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ackgroun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charged pions mimicking a muon (all pions except  when absorbed by strong interac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Lower energi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: less background pions, but muon Cerenkov threshold and bad energy resolution (Fermi moment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Higher energies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more background, but better muon efficiency and energy bins become possib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990099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990099"/>
                </a:solidFill>
                <a:latin typeface="Arial"/>
              </a:rPr>
              <a:t>Optimization obtained through detailed detector response to signal and back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50960" y="5099040"/>
            <a:ext cx="6837840" cy="4597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Present optimization: </a:t>
            </a:r>
            <a:r>
              <a:rPr b="0" lang="en-GB" sz="2400" spc="-1" strike="noStrike">
                <a:solidFill>
                  <a:srgbClr val="cc0000"/>
                </a:solidFill>
                <a:latin typeface="Symbol"/>
                <a:ea typeface="Symbol"/>
              </a:rPr>
              <a:t></a:t>
            </a: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= 100, 100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M. Mezzet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324000" y="324000"/>
            <a:ext cx="8820000" cy="64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78348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108000" y="6308640"/>
            <a:ext cx="2268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.Mezzetto, NNN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4284720" y="2565360"/>
            <a:ext cx="4519440" cy="382428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2"/>
          <a:stretch/>
        </p:blipFill>
        <p:spPr>
          <a:xfrm>
            <a:off x="117360" y="1268280"/>
            <a:ext cx="4167360" cy="518508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611280" y="260280"/>
            <a:ext cx="8137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ETA BEAM PERFORMANCES, ALONE and WITH SUPERB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050920" y="6021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050920" y="6021360"/>
            <a:ext cx="0" cy="2160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476360" y="6021360"/>
            <a:ext cx="0" cy="2160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627280" y="6021360"/>
            <a:ext cx="0" cy="2160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6720" y="6021360"/>
            <a:ext cx="0" cy="2160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39640" y="6308640"/>
            <a:ext cx="29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cc0000"/>
                </a:solidFill>
                <a:latin typeface="Arial"/>
              </a:rPr>
              <a:t>0.2</a:t>
            </a:r>
            <a:r>
              <a:rPr b="1" lang="en-GB" sz="10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r>
              <a:rPr b="1" lang="en-GB" sz="1000" spc="-1" strike="noStrike">
                <a:solidFill>
                  <a:srgbClr val="cc0000"/>
                </a:solidFill>
                <a:latin typeface="Arial"/>
              </a:rPr>
              <a:t>              0.5</a:t>
            </a:r>
            <a:r>
              <a:rPr b="1" lang="en-GB" sz="10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r>
              <a:rPr b="1" lang="en-GB" sz="1000" spc="-1" strike="noStrike">
                <a:solidFill>
                  <a:srgbClr val="cc0000"/>
                </a:solidFill>
                <a:latin typeface="Arial"/>
              </a:rPr>
              <a:t>           1</a:t>
            </a:r>
            <a:r>
              <a:rPr b="1" lang="en-GB" sz="10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r>
              <a:rPr b="1" lang="en-GB" sz="1000" spc="-1" strike="noStrike">
                <a:solidFill>
                  <a:srgbClr val="cc0000"/>
                </a:solidFill>
                <a:latin typeface="Arial"/>
              </a:rPr>
              <a:t>             2</a:t>
            </a:r>
            <a:r>
              <a:rPr b="1" lang="en-GB" sz="10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r>
              <a:rPr b="1" lang="en-GB" sz="1000" spc="-1" strike="noStrike">
                <a:solidFill>
                  <a:srgbClr val="cc0000"/>
                </a:solidFill>
                <a:latin typeface="Arial"/>
              </a:rPr>
              <a:t>               4</a:t>
            </a:r>
            <a:r>
              <a:rPr b="1" lang="en-GB" sz="10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643280" y="5805360"/>
            <a:ext cx="21600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643280" y="4797360"/>
            <a:ext cx="21600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643280" y="3645000"/>
            <a:ext cx="21600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191120" y="3500280"/>
            <a:ext cx="52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en-GB" sz="16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211640" y="458136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cc0000"/>
                </a:solidFill>
                <a:latin typeface="Arial"/>
              </a:rPr>
              <a:t>0.3</a:t>
            </a:r>
            <a:r>
              <a:rPr b="1" lang="en-GB" sz="12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284720" y="5661000"/>
            <a:ext cx="50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cc0000"/>
                </a:solidFill>
                <a:latin typeface="Arial"/>
              </a:rPr>
              <a:t>0.1</a:t>
            </a:r>
            <a:r>
              <a:rPr b="1" lang="en-GB" sz="10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076720" y="645336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.Mezzetto TAUP05 Zarago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765000"/>
            <a:ext cx="91440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0000"/>
                </a:solidFill>
                <a:latin typeface="Arial"/>
              </a:rPr>
              <a:t>For Frejus and HyperK detector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:  4.4 Mton.year (~10 year run, 440 kT fiducial mass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0000"/>
                </a:solidFill>
                <a:latin typeface="Arial"/>
              </a:rPr>
              <a:t>Frejus: full simulation of signal and background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, based on SK software: results cross-checked using GLoBES </a:t>
            </a:r>
            <a:r>
              <a:rPr b="0" lang="en-GB" sz="1400" spc="-1" strike="noStrike">
                <a:solidFill>
                  <a:srgbClr val="cc0000"/>
                </a:solidFill>
                <a:latin typeface="Arial"/>
              </a:rPr>
              <a:t>other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: GLoBES sim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500720" y="1484280"/>
            <a:ext cx="417492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ystematics on signal and background put at 2% on all projects for the same(10 y) running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uFACT; 10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1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cays/year, 2 x 50 kTdetectors at 3000 and 7500 km, detection threshold 4 G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643280" y="4292640"/>
            <a:ext cx="21600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211640" y="4076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cc0000"/>
                </a:solidFill>
                <a:latin typeface="Arial"/>
              </a:rPr>
              <a:t>0.5</a:t>
            </a:r>
            <a:r>
              <a:rPr b="1" lang="en-GB" sz="12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55640" y="6021360"/>
            <a:ext cx="0" cy="2872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211640" y="501336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cc0000"/>
                </a:solidFill>
                <a:latin typeface="Arial"/>
              </a:rPr>
              <a:t>0.2</a:t>
            </a:r>
            <a:r>
              <a:rPr b="1" lang="en-GB" sz="12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643280" y="5157720"/>
            <a:ext cx="28908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936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Arial"/>
              </a:rPr>
              <a:t>Degeneracy/ambiguity issues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826920" y="1773360"/>
            <a:ext cx="7274160" cy="30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First, one should clearly distinguish between the discovery potentia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f an experiment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# 0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C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0 ) and the determination of these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paramet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hich might be plagued by ambiguities (</a:t>
            </a: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a similar situation existed for many years for solar neutrinos : significant DEFICIT, many solutions : SMA, LMA, LOW, VA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ing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the highest value of </a:t>
            </a:r>
            <a:r>
              <a:rPr b="0" lang="el-GR" sz="1800" spc="-1" strike="noStrike">
                <a:solidFill>
                  <a:srgbClr val="cc0000"/>
                </a:solidFill>
                <a:latin typeface="Arial"/>
              </a:rPr>
              <a:t>θ</a:t>
            </a:r>
            <a:r>
              <a:rPr b="0" lang="en-GB" sz="1800" spc="-1" strike="noStrike" baseline="-25000">
                <a:solidFill>
                  <a:srgbClr val="cc0000"/>
                </a:solidFill>
                <a:latin typeface="Arial"/>
              </a:rPr>
              <a:t>13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mong different solutions as an indicator of sensitivity on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13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, as is done for exemple by Lindner et al, </a:t>
            </a: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is in my opinion misleadin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a 2-dim sensitivity contour bringing much more information). </a:t>
            </a:r>
            <a:r>
              <a:rPr b="0" lang="en-GB" sz="1800" spc="-1" strike="noStrike">
                <a:solidFill>
                  <a:srgbClr val="990099"/>
                </a:solidFill>
                <a:latin typeface="Arial"/>
              </a:rPr>
              <a:t>With this method, any oscillation experiment would have no sensitivity on </a:t>
            </a:r>
            <a:r>
              <a:rPr b="0" lang="el-GR" sz="1800" spc="-1" strike="noStrike">
                <a:solidFill>
                  <a:srgbClr val="990099"/>
                </a:solidFill>
                <a:latin typeface="Arial"/>
                <a:ea typeface="Arial"/>
              </a:rPr>
              <a:t>θ</a:t>
            </a:r>
            <a:r>
              <a:rPr b="0" lang="en-GB" sz="1800" spc="-1" strike="noStrike">
                <a:solidFill>
                  <a:srgbClr val="990099"/>
                </a:solidFill>
                <a:latin typeface="Arial"/>
                <a:ea typeface="Arial"/>
              </a:rPr>
              <a:t> as long as </a:t>
            </a:r>
            <a:r>
              <a:rPr b="0" lang="en-GB" sz="1800" spc="-1" strike="noStrike">
                <a:solidFill>
                  <a:srgbClr val="990099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990099"/>
                </a:solidFill>
                <a:latin typeface="Arial"/>
                <a:ea typeface="Arial"/>
              </a:rPr>
              <a:t>m</a:t>
            </a:r>
            <a:r>
              <a:rPr b="0" lang="en-GB" sz="1800" spc="-1" strike="noStrike" baseline="30000">
                <a:solidFill>
                  <a:srgbClr val="990099"/>
                </a:solidFill>
                <a:latin typeface="Arial"/>
                <a:ea typeface="Arial"/>
              </a:rPr>
              <a:t>2 </a:t>
            </a:r>
            <a:r>
              <a:rPr b="0" lang="en-GB" sz="1800" spc="-1" strike="noStrike">
                <a:solidFill>
                  <a:srgbClr val="990099"/>
                </a:solidFill>
                <a:latin typeface="Arial"/>
                <a:ea typeface="Arial"/>
              </a:rPr>
              <a:t>is unknow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Arial"/>
              </a:rPr>
              <a:t>Degeneracy/ambiguity issues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395280" y="1830240"/>
            <a:ext cx="7705800" cy="500868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/>
          <p:nvPr/>
        </p:nvSpPr>
        <p:spPr>
          <a:xfrm>
            <a:off x="4284720" y="2205000"/>
            <a:ext cx="14396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2K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995640" y="3141720"/>
            <a:ext cx="2808360" cy="78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.Schwetz, NuFact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-ph/05010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" descr=""/>
          <p:cNvPicPr/>
          <p:nvPr/>
        </p:nvPicPr>
        <p:blipFill>
          <a:blip r:embed="rId1"/>
          <a:stretch/>
        </p:blipFill>
        <p:spPr>
          <a:xfrm>
            <a:off x="0" y="225360"/>
            <a:ext cx="9144000" cy="64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ixing matrix: the missing parame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468000" y="3789360"/>
            <a:ext cx="115092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19280" y="378936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619280" y="2133360"/>
            <a:ext cx="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19280" y="3789360"/>
            <a:ext cx="865080" cy="93492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619280" y="3499920"/>
            <a:ext cx="1440000" cy="2890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619280" y="3357360"/>
            <a:ext cx="1224000" cy="4316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1619280" y="2636640"/>
            <a:ext cx="1224000" cy="11523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684000" y="3068640"/>
            <a:ext cx="934920" cy="7207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458136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3640" y="3716280"/>
            <a:ext cx="488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332000" y="1844640"/>
            <a:ext cx="57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03280" y="170028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987640" y="321300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Symbol"/>
                <a:ea typeface="Symbol"/>
              </a:rPr>
              <a:t></a:t>
            </a:r>
            <a:r>
              <a:rPr b="0" lang="en-GB" sz="1800" spc="-1" strike="noStrike" baseline="-25000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43280" y="249228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27280" y="2421000"/>
            <a:ext cx="72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Symbol"/>
                <a:ea typeface="Symbol"/>
              </a:rPr>
              <a:t></a:t>
            </a:r>
            <a:r>
              <a:rPr b="0" lang="en-GB" sz="1800" spc="-1" strike="noStrike" baseline="-25000">
                <a:solidFill>
                  <a:srgbClr val="cc0000"/>
                </a:solidFill>
                <a:latin typeface="Symbol"/>
                <a:ea typeface="Symbol"/>
              </a:rPr>
              <a:t>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2781360"/>
            <a:ext cx="100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Symbol"/>
                <a:ea typeface="Symbol"/>
              </a:rPr>
              <a:t></a:t>
            </a:r>
            <a:r>
              <a:rPr b="0" lang="en-GB" sz="1800" spc="-1" strike="noStrike" baseline="-25000">
                <a:solidFill>
                  <a:srgbClr val="cc0000"/>
                </a:solidFill>
                <a:latin typeface="Symbol"/>
                <a:ea typeface="Symbol"/>
              </a:rPr>
              <a:t>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4365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42920" y="4508640"/>
            <a:ext cx="863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 baseline="-25000">
                <a:solidFill>
                  <a:srgbClr val="33cc33"/>
                </a:solidFill>
                <a:latin typeface="Symbol"/>
                <a:ea typeface="Symbol"/>
              </a:rPr>
              <a:t>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84360" y="3933720"/>
            <a:ext cx="7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68360" y="3933720"/>
            <a:ext cx="64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 baseline="-25000">
                <a:solidFill>
                  <a:srgbClr val="33cc33"/>
                </a:solidFill>
                <a:latin typeface="Symbol"/>
                <a:ea typeface="Symbol"/>
              </a:rPr>
              <a:t>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56000" y="2781360"/>
            <a:ext cx="57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 baseline="-25000">
                <a:solidFill>
                  <a:srgbClr val="33cc33"/>
                </a:solidFill>
                <a:latin typeface="Symbol"/>
                <a:ea typeface="Symbol"/>
              </a:rPr>
              <a:t>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16000" y="5013360"/>
            <a:ext cx="1873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mercialScript BT"/>
              </a:rPr>
              <a:t>l 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= U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mercialScript BT"/>
              </a:rPr>
              <a:t>l 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55640" y="5589720"/>
            <a:ext cx="309564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  is a unitary matrix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 angles :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1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us 1 CP violating phase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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7280" y="1773360"/>
            <a:ext cx="2665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 masses m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, m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, m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95640" y="2565360"/>
            <a:ext cx="4753080" cy="13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SUN  : </a:t>
            </a:r>
            <a:r>
              <a:rPr b="1" lang="en-GB" sz="1800" spc="-1" strike="noStrike">
                <a:solidFill>
                  <a:srgbClr val="33cc33"/>
                </a:solidFill>
                <a:latin typeface="Symbol"/>
                <a:ea typeface="Symbol"/>
              </a:rPr>
              <a:t></a:t>
            </a:r>
            <a:r>
              <a:rPr b="1" lang="en-GB" sz="2000" spc="-1" strike="noStrike">
                <a:solidFill>
                  <a:srgbClr val="33cc33"/>
                </a:solidFill>
                <a:latin typeface="Symbol"/>
                <a:ea typeface="Symbol"/>
              </a:rPr>
              <a:t></a:t>
            </a: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m</a:t>
            </a:r>
            <a:r>
              <a:rPr b="1" lang="en-GB" sz="2000" spc="-1" strike="noStrike" baseline="-25000">
                <a:solidFill>
                  <a:srgbClr val="33cc33"/>
                </a:solidFill>
                <a:latin typeface="Arial"/>
              </a:rPr>
              <a:t>12</a:t>
            </a:r>
            <a:r>
              <a:rPr b="1" lang="en-GB" sz="2000" spc="-1" strike="noStrike" baseline="30000">
                <a:solidFill>
                  <a:srgbClr val="33cc33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 =  8 10</a:t>
            </a:r>
            <a:r>
              <a:rPr b="1" lang="en-GB" sz="1800" spc="-1" strike="noStrike" baseline="30000">
                <a:solidFill>
                  <a:srgbClr val="33cc33"/>
                </a:solidFill>
                <a:latin typeface="Arial"/>
              </a:rPr>
              <a:t>-5</a:t>
            </a: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 eV</a:t>
            </a:r>
            <a:r>
              <a:rPr b="1" lang="en-GB" sz="1800" spc="-1" strike="noStrike" baseline="30000">
                <a:solidFill>
                  <a:srgbClr val="33cc33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 ,  </a:t>
            </a:r>
            <a:r>
              <a:rPr b="1" lang="en-GB" sz="1800" spc="-1" strike="noStrike">
                <a:solidFill>
                  <a:srgbClr val="33cc33"/>
                </a:solidFill>
                <a:latin typeface="Symbol"/>
                <a:ea typeface="Symbol"/>
              </a:rPr>
              <a:t></a:t>
            </a:r>
            <a:r>
              <a:rPr b="1" lang="en-GB" sz="1800" spc="-1" strike="noStrike" baseline="-25000">
                <a:solidFill>
                  <a:srgbClr val="33cc33"/>
                </a:solidFill>
                <a:latin typeface="Arial"/>
              </a:rPr>
              <a:t>12</a:t>
            </a:r>
            <a:r>
              <a:rPr b="1" lang="en-US" sz="1800" spc="-1" strike="noStrike">
                <a:solidFill>
                  <a:srgbClr val="33cc33"/>
                </a:solidFill>
                <a:latin typeface="Arial"/>
                <a:ea typeface="Arial"/>
              </a:rPr>
              <a:t>~ 35</a:t>
            </a:r>
            <a:r>
              <a:rPr b="1" lang="en-US" sz="1800" spc="-1" strike="noStrike" baseline="30000">
                <a:solidFill>
                  <a:srgbClr val="33cc33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33cc33"/>
                </a:solidFill>
                <a:latin typeface="Arial"/>
                <a:ea typeface="Arial"/>
              </a:rPr>
              <a:t>ATM : </a:t>
            </a:r>
            <a:r>
              <a:rPr b="1" lang="en-GB" sz="2000" spc="-1" strike="noStrike">
                <a:solidFill>
                  <a:srgbClr val="33cc33"/>
                </a:solidFill>
                <a:latin typeface="Symbol"/>
                <a:ea typeface="Symbol"/>
              </a:rPr>
              <a:t></a:t>
            </a: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m</a:t>
            </a:r>
            <a:r>
              <a:rPr b="1" lang="en-GB" sz="2000" spc="-1" strike="noStrike" baseline="-25000">
                <a:solidFill>
                  <a:srgbClr val="33cc33"/>
                </a:solidFill>
                <a:latin typeface="Arial"/>
              </a:rPr>
              <a:t>23</a:t>
            </a:r>
            <a:r>
              <a:rPr b="1" lang="en-GB" sz="2000" spc="-1" strike="noStrike" baseline="30000">
                <a:solidFill>
                  <a:srgbClr val="33cc33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 =  2.5 10</a:t>
            </a:r>
            <a:r>
              <a:rPr b="0" lang="en-GB" sz="1800" spc="-1" strike="noStrike" baseline="30000">
                <a:solidFill>
                  <a:srgbClr val="33cc33"/>
                </a:solidFill>
                <a:latin typeface="Arial"/>
              </a:rPr>
              <a:t>-3</a:t>
            </a: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 eV</a:t>
            </a:r>
            <a:r>
              <a:rPr b="1" lang="en-GB" sz="1800" spc="-1" strike="noStrike" baseline="30000">
                <a:solidFill>
                  <a:srgbClr val="33cc33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 ,  </a:t>
            </a:r>
            <a:r>
              <a:rPr b="1" lang="en-GB" sz="1800" spc="-1" strike="noStrike">
                <a:solidFill>
                  <a:srgbClr val="33cc33"/>
                </a:solidFill>
                <a:latin typeface="Symbol"/>
                <a:ea typeface="Symbol"/>
              </a:rPr>
              <a:t></a:t>
            </a:r>
            <a:r>
              <a:rPr b="1" lang="en-GB" sz="1800" spc="-1" strike="noStrike" baseline="-25000">
                <a:solidFill>
                  <a:srgbClr val="33cc33"/>
                </a:solidFill>
                <a:latin typeface="Arial"/>
              </a:rPr>
              <a:t>23</a:t>
            </a: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  = 45</a:t>
            </a:r>
            <a:r>
              <a:rPr b="1" lang="en-GB" sz="1800" spc="-1" strike="noStrike" baseline="30000">
                <a:solidFill>
                  <a:srgbClr val="33cc33"/>
                </a:solidFill>
                <a:latin typeface="Arial"/>
              </a:rPr>
              <a:t>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24360" y="3716280"/>
            <a:ext cx="489564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Missing : </a:t>
            </a:r>
            <a:r>
              <a:rPr b="1" lang="en-GB" sz="2400" spc="-1" strike="noStrike">
                <a:solidFill>
                  <a:srgbClr val="cc0000"/>
                </a:solidFill>
                <a:latin typeface="Symbol"/>
                <a:ea typeface="Symbol"/>
              </a:rPr>
              <a:t></a:t>
            </a:r>
            <a:r>
              <a:rPr b="1" lang="en-GB" sz="2400" spc="-1" strike="noStrike" baseline="-25000">
                <a:solidFill>
                  <a:srgbClr val="cc0000"/>
                </a:solidFill>
                <a:latin typeface="Arial"/>
              </a:rPr>
              <a:t>13 </a:t>
            </a: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 and the phase </a:t>
            </a:r>
            <a:r>
              <a:rPr b="1" lang="en-GB" sz="2400" spc="-1" strike="noStrike">
                <a:solidFill>
                  <a:srgbClr val="cc0000"/>
                </a:solidFill>
                <a:latin typeface="Symbol"/>
                <a:ea typeface="Symbol"/>
              </a:rPr>
              <a:t>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both govern the </a:t>
            </a:r>
            <a:r>
              <a:rPr b="1" lang="en-GB" sz="18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1" lang="en-GB" sz="1800" spc="-1" strike="noStrike" baseline="-25000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1" lang="en-GB" sz="1800" spc="-1" strike="noStrike">
                <a:solidFill>
                  <a:srgbClr val="333399"/>
                </a:solidFill>
                <a:latin typeface="Symbol"/>
                <a:ea typeface="Symbol"/>
              </a:rPr>
              <a:t></a:t>
            </a:r>
            <a:r>
              <a:rPr b="1" lang="en-GB" sz="1800" spc="-1" strike="noStrike">
                <a:solidFill>
                  <a:srgbClr val="333399"/>
                </a:solidFill>
                <a:latin typeface="Wingdings"/>
                <a:ea typeface="Wingdings"/>
              </a:rPr>
              <a:t>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1" lang="en-GB" sz="1800" spc="-1" strike="noStrike" baseline="-25000">
                <a:solidFill>
                  <a:srgbClr val="333399"/>
                </a:solidFill>
                <a:latin typeface="Arial"/>
              </a:rPr>
              <a:t>e  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oscillation at the atmospheric freq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We know that </a:t>
            </a:r>
            <a:r>
              <a:rPr b="1" lang="en-GB" sz="1800" spc="-1" strike="noStrike">
                <a:solidFill>
                  <a:srgbClr val="333399"/>
                </a:solidFill>
                <a:latin typeface="Symbol"/>
                <a:ea typeface="Symbol"/>
              </a:rPr>
              <a:t></a:t>
            </a:r>
            <a:r>
              <a:rPr b="1" lang="en-GB" sz="1800" spc="-1" strike="noStrike" baseline="-25000">
                <a:solidFill>
                  <a:srgbClr val="333399"/>
                </a:solidFill>
                <a:latin typeface="Arial"/>
              </a:rPr>
              <a:t>13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 is &lt; 10</a:t>
            </a:r>
            <a:r>
              <a:rPr b="1" lang="en-GB" sz="1800" spc="-1" strike="noStrike" baseline="30000">
                <a:solidFill>
                  <a:srgbClr val="333399"/>
                </a:solidFill>
                <a:latin typeface="Arial"/>
              </a:rPr>
              <a:t>o 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(CHOO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716360" y="5734080"/>
            <a:ext cx="367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211640" y="5734080"/>
            <a:ext cx="4826160" cy="825480"/>
          </a:xfrm>
          <a:prstGeom prst="rect">
            <a:avLst/>
          </a:prstGeom>
          <a:solidFill>
            <a:srgbClr val="bbe0e3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we have to look for a small osci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00000" y="4292640"/>
            <a:ext cx="1295640" cy="239760"/>
          </a:xfrm>
          <a:custGeom>
            <a:avLst/>
            <a:gdLst/>
            <a:ahLst/>
            <a:rect l="l" t="t" r="r" b="b"/>
            <a:pathLst>
              <a:path w="816" h="151">
                <a:moveTo>
                  <a:pt x="0" y="0"/>
                </a:moveTo>
                <a:cubicBezTo>
                  <a:pt x="136" y="60"/>
                  <a:pt x="272" y="121"/>
                  <a:pt x="408" y="136"/>
                </a:cubicBezTo>
                <a:cubicBezTo>
                  <a:pt x="544" y="151"/>
                  <a:pt x="680" y="121"/>
                  <a:pt x="816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68360" y="3645000"/>
            <a:ext cx="82800" cy="936360"/>
          </a:xfrm>
          <a:custGeom>
            <a:avLst/>
            <a:gdLst/>
            <a:ahLst/>
            <a:rect l="l" t="t" r="r" b="b"/>
            <a:pathLst>
              <a:path w="52" h="590">
                <a:moveTo>
                  <a:pt x="45" y="590"/>
                </a:moveTo>
                <a:cubicBezTo>
                  <a:pt x="48" y="503"/>
                  <a:pt x="52" y="416"/>
                  <a:pt x="45" y="318"/>
                </a:cubicBezTo>
                <a:cubicBezTo>
                  <a:pt x="38" y="220"/>
                  <a:pt x="7" y="5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56000" y="2924280"/>
            <a:ext cx="168120" cy="504720"/>
          </a:xfrm>
          <a:custGeom>
            <a:avLst/>
            <a:gdLst/>
            <a:ahLst/>
            <a:rect l="l" t="t" r="r" b="b"/>
            <a:pathLst>
              <a:path w="106" h="318">
                <a:moveTo>
                  <a:pt x="91" y="318"/>
                </a:moveTo>
                <a:cubicBezTo>
                  <a:pt x="98" y="254"/>
                  <a:pt x="106" y="190"/>
                  <a:pt x="91" y="137"/>
                </a:cubicBezTo>
                <a:cubicBezTo>
                  <a:pt x="76" y="84"/>
                  <a:pt x="38" y="42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064720" cy="564660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395280" y="6093000"/>
            <a:ext cx="7848720" cy="6800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appearance in superbeam may also help in solving degeneracies (Donini et al, hep-ph/041140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971640" y="476280"/>
            <a:ext cx="7345440" cy="398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A possible schedule for  a european lab. at Frej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79280" y="1341360"/>
            <a:ext cx="813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ear       2005                   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2010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          2015                       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0" y="191628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fety tu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835280" y="1916280"/>
            <a:ext cx="136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908000" y="1916280"/>
            <a:ext cx="136872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ca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242100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 ca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492360" y="2421000"/>
            <a:ext cx="25923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ca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403280" y="2421000"/>
            <a:ext cx="576360" cy="30708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.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979640" y="2421000"/>
            <a:ext cx="129708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u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0" y="292428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t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835280" y="2924280"/>
            <a:ext cx="14396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M R&amp;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492360" y="2924280"/>
            <a:ext cx="28083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MT 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0" y="350028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t.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364000" y="3429000"/>
            <a:ext cx="20163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492360" y="3429000"/>
            <a:ext cx="18716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utside la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0" y="4076640"/>
            <a:ext cx="19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n-acc.phys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300720" y="4005360"/>
            <a:ext cx="2843280" cy="368280"/>
          </a:xfrm>
          <a:prstGeom prst="rect">
            <a:avLst/>
          </a:prstGeom>
          <a:solidFill>
            <a:srgbClr val="99cc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-decay, S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50920" y="4653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perb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780000" y="4653000"/>
            <a:ext cx="28796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659640" y="4653000"/>
            <a:ext cx="2484360" cy="368280"/>
          </a:xfrm>
          <a:prstGeom prst="rect">
            <a:avLst/>
          </a:prstGeom>
          <a:solidFill>
            <a:srgbClr val="99cc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perb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24000" y="515772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tab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659640" y="5157720"/>
            <a:ext cx="2484360" cy="368280"/>
          </a:xfrm>
          <a:prstGeom prst="rect">
            <a:avLst/>
          </a:prstGeom>
          <a:solidFill>
            <a:srgbClr val="99cc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ta b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V="1" rot="10800000">
            <a:off x="5435280" y="5733720"/>
            <a:ext cx="3384360" cy="642600"/>
          </a:xfrm>
          <a:prstGeom prst="rect">
            <a:avLst/>
          </a:prstGeom>
          <a:noFill/>
          <a:ln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Several modules: physics can start when the 1</a:t>
            </a:r>
            <a:r>
              <a:rPr b="0" lang="en-GB" sz="1800" spc="-1" strike="noStrike" baseline="30000">
                <a:solidFill>
                  <a:srgbClr val="009900"/>
                </a:solidFill>
                <a:latin typeface="Arial"/>
              </a:rPr>
              <a:t>st</a:t>
            </a: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 is re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835280" y="3429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364000" y="2421000"/>
            <a:ext cx="0" cy="360360"/>
          </a:xfrm>
          <a:prstGeom prst="line">
            <a:avLst/>
          </a:prstGeom>
          <a:ln w="936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780000" y="5157720"/>
            <a:ext cx="28796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348000" y="1773360"/>
            <a:ext cx="0" cy="39607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47640" y="5734080"/>
            <a:ext cx="3384720" cy="9169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decision for cavity digging decision for SPL  construction decision for EURISOL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" descr=""/>
          <p:cNvPicPr/>
          <p:nvPr/>
        </p:nvPicPr>
        <p:blipFill>
          <a:blip r:embed="rId1"/>
          <a:srcRect l="2976" t="0" r="43607" b="43333"/>
          <a:stretch/>
        </p:blipFill>
        <p:spPr>
          <a:xfrm>
            <a:off x="380880" y="1600200"/>
            <a:ext cx="7626600" cy="335916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/>
          <p:nvPr/>
        </p:nvSpPr>
        <p:spPr>
          <a:xfrm>
            <a:off x="2373480" y="2509920"/>
            <a:ext cx="1198440" cy="549360"/>
          </a:xfr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3 MeV test place rea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71520" y="5051520"/>
            <a:ext cx="2743200" cy="1218960"/>
          </a:xfrm>
          <a:solidFill>
            <a:srgbClr val="ffe98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inac4 approval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“…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2006-20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to decide on the </a:t>
            </a: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implementation  of the Linac 4 and any increased R&amp;D programm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depending on new funds made available and on a new HR polic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715000" y="4989600"/>
            <a:ext cx="2895480" cy="1411200"/>
          </a:xfrm>
          <a:solidFill>
            <a:srgbClr val="ffc5e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PL approval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2009-201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o review and redefine the strategy for CERN activities in the next decade 2011-2020 in the light of the first results from LHC and of progress and results from the previous actions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04920" y="1143000"/>
            <a:ext cx="2679480" cy="465120"/>
          </a:xfr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F tests in SM 18 of prototype structures* for Linac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876840" y="5100480"/>
            <a:ext cx="933120" cy="36540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DR 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3886200" y="43430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80880" y="235080"/>
            <a:ext cx="68580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ning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265360" y="1143000"/>
            <a:ext cx="335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* Quotes from R. Aymar (Jan.200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95280" y="6453360"/>
            <a:ext cx="1512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. Garo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755640" y="274320"/>
            <a:ext cx="7416720" cy="7779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Arial"/>
              </a:rPr>
              <a:t>High energy beta b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826920" y="1268280"/>
            <a:ext cx="7921800" cy="54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ny papers in the last 2 years have advocated using </a:t>
            </a: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higher energ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beta beam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with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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nging from 350 (</a:t>
            </a:r>
            <a:r>
              <a:rPr b="0" lang="en-GB" sz="1800" spc="-1" strike="noStrike">
                <a:solidFill>
                  <a:srgbClr val="990099"/>
                </a:solidFill>
                <a:latin typeface="Arial"/>
              </a:rPr>
              <a:t>refurbished SP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 to 1000 or higher (</a:t>
            </a:r>
            <a:r>
              <a:rPr b="0" lang="en-GB" sz="1800" spc="-1" strike="noStrike">
                <a:solidFill>
                  <a:srgbClr val="990099"/>
                </a:solidFill>
                <a:latin typeface="Arial"/>
              </a:rPr>
              <a:t>greenfield scenari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Higher energy offers several advantages, in particular to solve the mass hierarchy through matter eff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MOST STUDIES BASED ON THE HYPOTHESIS THAT THE DECAY RATE IN THE RING STAYS THE SA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so that the event rate grows like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veats: phase space limitation  =&gt; increase bunch length =&gt; more background: This needs to be studied carefu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t higher energy, performances of water Cerenkov deteriorate (background increase). Possibility =&gt; change technology =&gt; smaller mass =&gt; less statistics (and loss for non-accelerator physic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a new accelerator, new site and a very big decay ring =&gt; </a:t>
            </a: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cost iss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se projects, if proven feasible and as performant as expected, will arrive much later, but would then be direct competitors to a neutrino factor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see P.Hernandez review talk at CERN ISS meeting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oss-S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1908000" y="907920"/>
            <a:ext cx="5486400" cy="541512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324000" y="6308640"/>
            <a:ext cx="259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.Casper, NuFact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gnal and Backgrounds, W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918720" y="5181480"/>
            <a:ext cx="21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-ring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like 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642640" y="5181480"/>
            <a:ext cx="21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-ring e-like 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366840" y="1143000"/>
            <a:ext cx="3976560" cy="401472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/>
          <p:cNvPicPr/>
          <p:nvPr/>
        </p:nvPicPr>
        <p:blipFill>
          <a:blip r:embed="rId2"/>
          <a:stretch/>
        </p:blipFill>
        <p:spPr>
          <a:xfrm>
            <a:off x="4724280" y="1058760"/>
            <a:ext cx="4148280" cy="4129200"/>
          </a:xfrm>
          <a:prstGeom prst="rect">
            <a:avLst/>
          </a:prstGeom>
          <a:ln w="0">
            <a:noFill/>
          </a:ln>
        </p:spPr>
      </p:pic>
      <p:sp>
        <p:nvSpPr>
          <p:cNvPr id="508" name=""/>
          <p:cNvSpPr/>
          <p:nvPr/>
        </p:nvSpPr>
        <p:spPr>
          <a:xfrm>
            <a:off x="324000" y="6308640"/>
            <a:ext cx="259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.Casper, NuFact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s of D.Casper on W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very mature and powerful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grounds to low-medium energy super-beams or beta beams are fairly manage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s on details of beam, baseline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ies above 1.5-2 GeV create difficul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be mitigated by 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24000" y="6308640"/>
            <a:ext cx="259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.Casper, NuFact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Arial"/>
              </a:rPr>
              <a:t>First example (hep-ph/0503021)</a:t>
            </a:r>
            <a:br>
              <a:rPr sz="40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. Burguet-Castell et 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684360" y="1628640"/>
            <a:ext cx="72723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Flux independent of </a:t>
            </a:r>
            <a:r>
              <a:rPr b="0" lang="en-GB" sz="24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Overestimate duty cycle r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setups considered (with megaton detector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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120, L=130 km (optimal Frej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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150, L=300 km (max,SPS at optimal dist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II g=350, L=730 km (S-SPS, Canfranc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362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nsitivity to CP-Violation vs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nsitivity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ahoma"/>
              </a:rPr>
              <a:t>θ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  <a:ea typeface="Tahoma"/>
              </a:rPr>
              <a:t>13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ahoma"/>
              </a:rPr>
              <a:t>≠0 vs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1763640" y="878040"/>
            <a:ext cx="5616720" cy="247968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2"/>
          <a:stretch/>
        </p:blipFill>
        <p:spPr>
          <a:xfrm>
            <a:off x="1784520" y="3933720"/>
            <a:ext cx="5595840" cy="253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Arial"/>
              </a:rPr>
              <a:t>Comparison of  set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1"/>
          <a:stretch/>
        </p:blipFill>
        <p:spPr>
          <a:xfrm>
            <a:off x="4427640" y="2060640"/>
            <a:ext cx="4716360" cy="350496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2"/>
          <a:stretch/>
        </p:blipFill>
        <p:spPr>
          <a:xfrm>
            <a:off x="0" y="1916280"/>
            <a:ext cx="4716360" cy="353520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826920" y="6093000"/>
            <a:ext cx="3168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om E.Couce, NuFact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Another look at the mixing matri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324000" y="2060640"/>
                <a:ext cx="8499240" cy="13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iδ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iδ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1476360" y="386064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284720" y="386064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948360" y="234936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028000" y="2349360"/>
            <a:ext cx="431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020000" y="2708280"/>
            <a:ext cx="431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028000" y="2708280"/>
            <a:ext cx="3603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164360" y="393372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26920" y="4941720"/>
            <a:ext cx="1873440" cy="16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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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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T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64000" y="4941720"/>
            <a:ext cx="2017800" cy="16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Symbol"/>
                <a:ea typeface="Symbol"/>
              </a:rPr>
              <a:t></a:t>
            </a:r>
            <a:r>
              <a:rPr b="0" lang="en-GB" sz="2800" spc="-1" strike="noStrike" baseline="-25000">
                <a:solidFill>
                  <a:srgbClr val="cc0000"/>
                </a:solidFill>
                <a:latin typeface="Symbol"/>
                <a:ea typeface="Symbol"/>
              </a:rPr>
              <a:t></a:t>
            </a:r>
            <a:r>
              <a:rPr b="0" lang="en-GB" sz="2800" spc="-1" strike="noStrike">
                <a:solidFill>
                  <a:srgbClr val="cc000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cc0000"/>
                </a:solidFill>
                <a:latin typeface="Symbol"/>
                <a:ea typeface="Symbol"/>
              </a:rPr>
              <a:t></a:t>
            </a:r>
            <a:r>
              <a:rPr b="0" lang="en-GB" sz="2800" spc="-1" strike="noStrike" baseline="-25000">
                <a:solidFill>
                  <a:srgbClr val="cc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       </a:t>
            </a: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ATM</a:t>
            </a: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516720" y="5013360"/>
            <a:ext cx="2160720" cy="11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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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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OLA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6021360"/>
            <a:ext cx="82818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9900"/>
                </a:solidFill>
                <a:latin typeface="Arial"/>
              </a:rPr>
              <a:t>This “factorization” of effects is due to the smallness of </a:t>
            </a:r>
            <a:r>
              <a:rPr b="1" lang="en-GB" sz="2000" spc="-1" strike="noStrike">
                <a:solidFill>
                  <a:srgbClr val="009900"/>
                </a:solidFill>
                <a:latin typeface="Symbol"/>
                <a:ea typeface="Symbol"/>
              </a:rPr>
              <a:t></a:t>
            </a:r>
            <a:r>
              <a:rPr b="1" lang="en-GB" sz="2000" spc="-1" strike="noStrike" baseline="-25000">
                <a:solidFill>
                  <a:srgbClr val="009900"/>
                </a:solidFill>
                <a:latin typeface="Arial"/>
              </a:rPr>
              <a:t>13 </a:t>
            </a:r>
            <a:r>
              <a:rPr b="1" lang="en-GB" sz="2000" spc="-1" strike="noStrike">
                <a:solidFill>
                  <a:srgbClr val="009900"/>
                </a:solidFill>
                <a:latin typeface="Arial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9900"/>
                </a:solidFill>
                <a:latin typeface="Arial"/>
              </a:rPr>
              <a:t>the strong difference in oscillation frequ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GB" sz="4400" spc="-1" strike="noStrike" baseline="30000">
                <a:solidFill>
                  <a:srgbClr val="0000ff"/>
                </a:solidFill>
                <a:latin typeface="Arial"/>
              </a:rPr>
              <a:t>nd</a:t>
            </a:r>
            <a:r>
              <a:rPr b="0" lang="en-GB" sz="4400" spc="-1" strike="noStrike">
                <a:solidFill>
                  <a:srgbClr val="0000ff"/>
                </a:solidFill>
                <a:latin typeface="Arial"/>
              </a:rPr>
              <a:t> example (Migliozzi, TAUP0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059280" y="1628640"/>
            <a:ext cx="4608360" cy="147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= 350 (S-SPS) , same flux as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CERN-Frej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0 kT at Gran Sa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 year 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3276720" y="3348000"/>
            <a:ext cx="5867280" cy="351000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>
            <a:off x="900000" y="4869000"/>
            <a:ext cx="2448000" cy="11912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formances similar to CERN-Frejus and no non-accelerator phys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4859280" y="3141720"/>
            <a:ext cx="21744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348000" y="5300640"/>
            <a:ext cx="1224000" cy="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Arial"/>
              </a:rPr>
              <a:t>3rd example (hep-ph/0405081)</a:t>
            </a:r>
            <a:br>
              <a:rPr sz="40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Terranova et 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900000" y="1773360"/>
            <a:ext cx="705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11280" y="1773360"/>
            <a:ext cx="7705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 between 1500 and 2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ll detector counting muons at Gran Sa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2268360" y="2770200"/>
            <a:ext cx="5472360" cy="35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Arial"/>
              </a:rPr>
              <a:t>EC ions: monochromatic beams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J.Bernabeu et al, hep-ph/05050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68360" y="1628640"/>
            <a:ext cx="734364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andidates:  </a:t>
            </a:r>
            <a:r>
              <a:rPr b="1" lang="en-GB" sz="1800" spc="-1" strike="noStrike" baseline="30000">
                <a:solidFill>
                  <a:srgbClr val="000000"/>
                </a:solidFill>
                <a:latin typeface="Arial"/>
              </a:rPr>
              <a:t>148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y   T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1/2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= 3.1 mn   EC/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= 96/4         Q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EC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= 2062 ke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GB" sz="1800" spc="-1" strike="noStrike" baseline="30000">
                <a:solidFill>
                  <a:srgbClr val="000000"/>
                </a:solidFill>
                <a:latin typeface="Arial"/>
              </a:rPr>
              <a:t>150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y   T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1/2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= 7.2 mn  EC/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= 99.9/0.1   Q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E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= 1397 k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4176720" cy="312876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/>
          <p:nvPr/>
        </p:nvSpPr>
        <p:spPr>
          <a:xfrm>
            <a:off x="1835280" y="314172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30 k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572000" y="2708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Pending question: achievable flux ? Challenge: needs partially stripped 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003640" y="3500280"/>
            <a:ext cx="33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Run at different </a:t>
            </a:r>
            <a:r>
              <a:rPr b="0" lang="en-GB" sz="1800" spc="-1" strike="noStrike">
                <a:solidFill>
                  <a:srgbClr val="0000ff"/>
                </a:solidFill>
                <a:latin typeface="Symbol"/>
                <a:ea typeface="Symbol"/>
              </a:rPr>
              <a:t>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’s, with or without betabeam: interesting potentia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859280" y="465300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Even at low flux, ideal beam to measure neutrino cross-sections in a near det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08000" y="5805360"/>
            <a:ext cx="8928000" cy="855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also… 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intense 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monochromatic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 neutron beam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about 10 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n/sec , useful for nuclear physics (cf NuPA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79280" y="44280"/>
            <a:ext cx="8785440" cy="1368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(very) low energy beta-beams(</a:t>
            </a:r>
            <a:r>
              <a:rPr b="0" lang="en-US" sz="4000" spc="-1" strike="noStrike">
                <a:solidFill>
                  <a:srgbClr val="0000ff"/>
                </a:solidFill>
                <a:latin typeface="Symbol"/>
                <a:ea typeface="Symbol"/>
              </a:rPr>
              <a:t>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~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7-14)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Volpe, Journ. Phys. G30 (2004) L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16420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The i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To exploit th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beta-beam concept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roduce intense and pure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ow-energy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neutrino bea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5653800" y="1700280"/>
            <a:ext cx="3116160" cy="1194480"/>
            <a:chOff x="5653800" y="1700280"/>
            <a:chExt cx="3116160" cy="1194480"/>
          </a:xfrm>
        </p:grpSpPr>
        <p:sp>
          <p:nvSpPr>
            <p:cNvPr id="542" name=""/>
            <p:cNvSpPr/>
            <p:nvPr/>
          </p:nvSpPr>
          <p:spPr>
            <a:xfrm>
              <a:off x="6040080" y="2257560"/>
              <a:ext cx="254160" cy="304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6230880" y="1952280"/>
              <a:ext cx="252360" cy="304920"/>
            </a:xfrm>
            <a:prstGeom prst="line">
              <a:avLst/>
            </a:prstGeom>
            <a:ln w="93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 flipV="1">
              <a:off x="6287040" y="2408760"/>
              <a:ext cx="394200" cy="39960"/>
            </a:xfrm>
            <a:prstGeom prst="line">
              <a:avLst/>
            </a:prstGeom>
            <a:ln w="93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 flipH="1" flipV="1">
              <a:off x="5863680" y="1943280"/>
              <a:ext cx="227160" cy="324000"/>
            </a:xfrm>
            <a:prstGeom prst="line">
              <a:avLst/>
            </a:prstGeom>
            <a:ln w="93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 flipV="1">
              <a:off x="5653800" y="2389680"/>
              <a:ext cx="393840" cy="40320"/>
            </a:xfrm>
            <a:prstGeom prst="line">
              <a:avLst/>
            </a:prstGeom>
            <a:ln w="93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230880" y="2562480"/>
              <a:ext cx="252360" cy="304560"/>
            </a:xfrm>
            <a:prstGeom prst="line">
              <a:avLst/>
            </a:prstGeom>
            <a:ln w="93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flipH="1">
              <a:off x="5863680" y="2553120"/>
              <a:ext cx="227160" cy="323640"/>
            </a:xfrm>
            <a:prstGeom prst="line">
              <a:avLst/>
            </a:prstGeom>
            <a:ln w="93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937200" y="2462400"/>
              <a:ext cx="695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867720" y="2443320"/>
              <a:ext cx="79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oo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735680" y="2200320"/>
              <a:ext cx="87480" cy="4096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7803000" y="2399400"/>
              <a:ext cx="591120" cy="59040"/>
            </a:xfrm>
            <a:prstGeom prst="line">
              <a:avLst/>
            </a:prstGeom>
            <a:ln w="93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7823880" y="1949400"/>
              <a:ext cx="528480" cy="387000"/>
            </a:xfrm>
            <a:prstGeom prst="line">
              <a:avLst/>
            </a:prstGeom>
            <a:ln w="93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827480" y="2496600"/>
              <a:ext cx="519840" cy="398160"/>
            </a:xfrm>
            <a:prstGeom prst="line">
              <a:avLst/>
            </a:prstGeom>
            <a:ln w="93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506280" y="1952640"/>
              <a:ext cx="36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8404920" y="2062440"/>
              <a:ext cx="36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915880" y="2189160"/>
              <a:ext cx="59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6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H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500160" y="1700280"/>
              <a:ext cx="156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00"/>
                  </a:solidFill>
                  <a:latin typeface="Comic Sans MS"/>
                </a:rPr>
                <a:t>Beta-bea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6014160" y="3332160"/>
            <a:ext cx="2524680" cy="1033200"/>
            <a:chOff x="6014160" y="3332160"/>
            <a:chExt cx="2524680" cy="1033200"/>
          </a:xfrm>
        </p:grpSpPr>
        <p:sp>
          <p:nvSpPr>
            <p:cNvPr id="560" name=""/>
            <p:cNvSpPr/>
            <p:nvPr/>
          </p:nvSpPr>
          <p:spPr>
            <a:xfrm flipV="1">
              <a:off x="8074080" y="3755520"/>
              <a:ext cx="457200" cy="152280"/>
            </a:xfrm>
            <a:prstGeom prst="line">
              <a:avLst/>
            </a:prstGeom>
            <a:ln w="93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702480" y="3881160"/>
              <a:ext cx="304920" cy="3049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016680" y="4033800"/>
              <a:ext cx="457200" cy="0"/>
            </a:xfrm>
            <a:prstGeom prst="line">
              <a:avLst/>
            </a:prstGeom>
            <a:ln w="9360">
              <a:solidFill>
                <a:srgbClr val="cc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921800" y="4213080"/>
              <a:ext cx="304560" cy="15228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997760" y="3832200"/>
              <a:ext cx="152640" cy="1522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38040" y="3555720"/>
              <a:ext cx="38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Georgi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616880" y="3984480"/>
              <a:ext cx="304920" cy="30492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8147880" y="3332160"/>
              <a:ext cx="39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9900"/>
                  </a:solidFill>
                  <a:latin typeface="Comic Sans MS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014160" y="3535200"/>
              <a:ext cx="36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996633"/>
                  </a:solidFill>
                  <a:latin typeface="Symbol"/>
                  <a:ea typeface="Symbol"/>
                </a:rPr>
                <a:t>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596640" y="3474720"/>
              <a:ext cx="38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Georgi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0" name=""/>
          <p:cNvSpPr/>
          <p:nvPr/>
        </p:nvSpPr>
        <p:spPr>
          <a:xfrm>
            <a:off x="4140360" y="5300640"/>
            <a:ext cx="5003640" cy="1441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Design study within EURIS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esign of a small storage ring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ossible construction at C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(in old antiproton storage ring 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39640" y="3040200"/>
            <a:ext cx="516420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Physics pot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Neutrino-nucleus interaction studies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nuclear astrophys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neutrino experiments (oscillation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neutrinoless double-beta deca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nuclear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63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Arial"/>
              </a:rPr>
              <a:t>Conclusions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39640" y="765000"/>
            <a:ext cx="7993080" cy="575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re are clearly 2 different strategies concerning beta-beam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. The </a:t>
            </a: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baseline scenari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g=100,  L=130 km)  with a megaton WC detector at Frejus, which makes full use of some happy coinciden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CERN-Frejus is the right distance for the SPL superb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Digging a safety gallery at Frejus gives a good opprtunity to dig the new cavern (2010-201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Beta-beam energy obtained from SPS fits also Cern-Frejus distance, and a strong synergy with Eurisol project has become evident and fruit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The betabeam + superbeam combination gives by far the best second generation project worldwide (superior to T2K2 or BNL/UN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e can easily take the risk of a null result on oscillations, since such a detector has a very rich and fundamental program of  its own (proton decay, supernova explos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this approach, </a:t>
            </a:r>
            <a:r>
              <a:rPr b="0" lang="en-GB" sz="1800" spc="-1" strike="noStrike">
                <a:solidFill>
                  <a:srgbClr val="990099"/>
                </a:solidFill>
                <a:latin typeface="Arial"/>
              </a:rPr>
              <a:t>the project is not meant to compete with neutrino factories,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but to </a:t>
            </a: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arrive soon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17) and allow </a:t>
            </a: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significant progres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n oscillations….while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ringing back neutrino physics to 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002440" cy="9223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Arial"/>
              </a:rPr>
              <a:t>Conclusion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11280" y="1484280"/>
            <a:ext cx="7777080" cy="340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The higher energy betabea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which clearly aims at competing with a neutrino fac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achieve these goals, the baseline scenario has to be significantly improved to override present limitations. It mea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new complex of accelerators (faster, higher acceptable flux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better (and bigger!) decay 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Such a project will anyhow need much more R&amp;D, will arrive much later and will be also more costly.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n oscillation physics could also become a criterim to choose between betabeams and neutrino factories, in case 2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generation experiments have seen no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84360" y="5157720"/>
            <a:ext cx="77752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tually, these 2 strategies are not exclusive, we could have both in sequence. An alternative would be to skip the baseline betabeam and go directly to a high energy betabeam or a neutrino factory, </a:t>
            </a: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but I personnally find this too risk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979280" y="-360"/>
            <a:ext cx="4824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ummar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11280" y="692280"/>
            <a:ext cx="7920000" cy="5889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A megaton water Cerenkov detector ,consisting of several modules, can be installed  between 2010 and 2020 at Frej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It has a very rich non-accelerator program of its own: proton decay, SN explosions, atmospheric, solar, past SN neutri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If CERN decides to build the SP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it offers an excellent superbeam of 2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generation, with similar performances to the japanese project T2K2 and starting sooner (HK ready by 2020-202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If  this SPL is the proton machine for EURISOL at CER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it opens the way to beta beams, with modest added cost, offering  better performances than the superbeam and a strong complementarity between the two be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cerning neutrino physics, this project is not meant to compete with a neutrino factory, but to </a:t>
            </a: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arrive sooner and make significant progres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n the presently unknown parameters… and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ring back </a:t>
            </a:r>
            <a:r>
              <a:rPr b="0" lang="en-GB" sz="1800" spc="-1" strike="noStrike">
                <a:solidFill>
                  <a:srgbClr val="0000ff"/>
                </a:solidFill>
                <a:latin typeface="Symbol"/>
                <a:ea typeface="Symbol"/>
              </a:rPr>
              <a:t>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physics to Europ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 Higher energy beta beams correspond to a different strategy, as an alternative to neutrino factor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99"/>
                </a:solidFill>
                <a:latin typeface="Arial"/>
              </a:rPr>
              <a:t>It gives a common interest to nuclear physicists and neutrino physicists to have the SPL at C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2050920" y="2349360"/>
            <a:ext cx="489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BACKUP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0" name=""/>
          <p:cNvGraphicFramePr/>
          <p:nvPr/>
        </p:nvGraphicFramePr>
        <p:xfrm>
          <a:off x="108000" y="404640"/>
          <a:ext cx="8748720" cy="6192720"/>
        </p:xfrm>
        <a:graphic>
          <a:graphicData uri="http://schemas.openxmlformats.org/drawingml/2006/table">
            <a:tbl>
              <a:tblPr/>
              <a:tblGrid>
                <a:gridCol w="863640"/>
                <a:gridCol w="1368360"/>
                <a:gridCol w="1476360"/>
                <a:gridCol w="1044720"/>
                <a:gridCol w="1368360"/>
                <a:gridCol w="1295280"/>
                <a:gridCol w="1332000"/>
              </a:tblGrid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sent acceler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placement acceler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mprov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INTEREST  F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LHC upgra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physics beyond CN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RIB beyond ISOL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Physics with Kand </a:t>
                      </a: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nac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nac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0 M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r>
                        <a:rPr b="1" lang="en-GB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r>
                        <a:rPr b="1" lang="en-GB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 (if alon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7a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 (if alon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7a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 (if alon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7a7"/>
                    </a:solidFill>
                  </a:tcPr>
                </a:tc>
              </a:tr>
              <a:tr h="8503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S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 GeV RCS* for HE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2.2 G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250 k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 (if alon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7a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 (if alon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7a7"/>
                    </a:solidFill>
                  </a:tcPr>
                </a:tc>
              </a:tr>
              <a:tr h="94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 GeV/mMW RCS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2.2 G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1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4 M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super-beam,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beam ?,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factor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c8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too short  beam puls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 (if alon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7a7"/>
                    </a:solidFill>
                  </a:tcPr>
                </a:tc>
              </a:tr>
              <a:tr h="94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 GeV/50 H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L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2.2 G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1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4 M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super-beam,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beam,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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ctor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c8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c8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 (if alon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7a7"/>
                    </a:solidFill>
                  </a:tcPr>
                </a:tc>
              </a:tr>
              <a:tr h="5929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C PS*/** for HE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50 G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nsity x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c8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 (if alon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7a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7a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Hz RCS*/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→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G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4 M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c8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factor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c8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7a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c8ff"/>
                    </a:solidFill>
                  </a:tcPr>
                </a:tc>
              </a:tr>
              <a:tr h="77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TeV SC SPS*/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45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1 T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nsity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c8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7a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c8ff"/>
                    </a:solidFill>
                  </a:tcPr>
                </a:tc>
              </a:tr>
            </a:tbl>
          </a:graphicData>
        </a:graphic>
      </p:graphicFrame>
      <p:sp>
        <p:nvSpPr>
          <p:cNvPr id="581" name=""/>
          <p:cNvSpPr/>
          <p:nvPr/>
        </p:nvSpPr>
        <p:spPr>
          <a:xfrm>
            <a:off x="606240" y="6553080"/>
            <a:ext cx="173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with brightness x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059280" y="65530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* need new injector(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979640" y="0"/>
            <a:ext cx="48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HIP WG: long term alternativ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.Garob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1600200" y="222732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09480" y="1219320"/>
            <a:ext cx="8305920" cy="466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●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uture neutrino facilities offer great promise for fundamental discoveries (such as CP violation) in neutrino physics, and a post-LHC construction window may exist for a facility to be sited at CER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●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ERN should arrange a budget and personnel to enhance its participation in further developing the physics case and the technologies necessary for the realization of such facilities.  This would allow CERN to play a significant role in such projects wherever they are sited.</a:t>
            </a:r>
            <a:r>
              <a:rPr b="0" lang="en-GB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●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 u="sng">
                <a:solidFill>
                  <a:srgbClr val="0000cc"/>
                </a:solidFill>
                <a:uFillTx/>
                <a:latin typeface="Comic Sans MS"/>
              </a:rPr>
              <a:t>A high-power proton driver is a main building block of future projects, and is therefore required.</a:t>
            </a:r>
            <a:r>
              <a:rPr b="0" lang="en-GB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●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 u="sng">
                <a:solidFill>
                  <a:srgbClr val="ff0000"/>
                </a:solidFill>
                <a:uFillTx/>
                <a:latin typeface="Comic Sans MS"/>
              </a:rPr>
              <a:t>Alone,</a:t>
            </a:r>
            <a:r>
              <a:rPr b="0" lang="en-GB" sz="1800" spc="-1" strike="noStrike" u="sng">
                <a:solidFill>
                  <a:srgbClr val="0000cc"/>
                </a:solidFill>
                <a:uFillTx/>
                <a:latin typeface="Comic Sans MS"/>
              </a:rPr>
              <a:t> a direct superbeam from a 2.2 GeV SPL does not appear to be the most attractive option for a future CERN neutrino experiment as it does not produce a significant advance on T2K.</a:t>
            </a:r>
            <a:r>
              <a:rPr b="0" lang="en-GB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●</a:t>
            </a: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e welcome the effort, partly funded by the EU, concerned with the conceptual design of a </a:t>
            </a:r>
            <a:r>
              <a:rPr b="0" i="1" lang="el-GR" sz="1800" spc="-1" strike="noStrike">
                <a:solidFill>
                  <a:srgbClr val="000000"/>
                </a:solidFill>
                <a:latin typeface="Comic Sans MS"/>
              </a:rPr>
              <a:t>β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-beam.  At the same time </a:t>
            </a:r>
            <a:r>
              <a:rPr b="0" lang="en-GB" sz="1800" spc="-1" strike="noStrike" u="sng">
                <a:solidFill>
                  <a:srgbClr val="0000cc"/>
                </a:solidFill>
                <a:uFillTx/>
                <a:latin typeface="Comic Sans MS"/>
              </a:rPr>
              <a:t>CERN should support the European neutrino factory initiative in its conceptual design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03120" y="683568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7848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PSC (Villars) recommend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 rot="16200000">
            <a:off x="-952920" y="301320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7c00"/>
                </a:solidFill>
                <a:latin typeface="Arial"/>
              </a:rPr>
              <a:t>CERN Context [3/6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24480" y="5751360"/>
            <a:ext cx="3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-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6923160" cy="77796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The quest for </a:t>
            </a:r>
            <a:r>
              <a:rPr b="0" lang="en-GB" sz="3200" spc="-1" strike="noStrike">
                <a:solidFill>
                  <a:srgbClr val="cc0000"/>
                </a:solidFill>
                <a:latin typeface="Symbol"/>
                <a:ea typeface="Symbol"/>
              </a:rPr>
              <a:t></a:t>
            </a:r>
            <a:r>
              <a:rPr b="0" lang="en-GB" sz="3200" spc="-1" strike="noStrike" baseline="-25000">
                <a:solidFill>
                  <a:srgbClr val="cc0000"/>
                </a:solidFill>
                <a:latin typeface="Arial"/>
              </a:rPr>
              <a:t>13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87280" y="126828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w reactor experiments (double-Chooz, 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utrino superbeams of first generation (T2K,NOv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58920" y="2421000"/>
            <a:ext cx="6121440" cy="71820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0000"/>
                </a:solidFill>
                <a:latin typeface="Arial"/>
              </a:rPr>
              <a:t>…</a:t>
            </a:r>
            <a:r>
              <a:rPr b="0" lang="en-GB" sz="3600" spc="-1" strike="noStrike">
                <a:solidFill>
                  <a:srgbClr val="cc0000"/>
                </a:solidFill>
                <a:latin typeface="Arial"/>
              </a:rPr>
              <a:t>.and for </a:t>
            </a:r>
            <a:r>
              <a:rPr b="0" lang="en-GB" sz="3600" spc="-1" strike="noStrike">
                <a:solidFill>
                  <a:srgbClr val="cc0000"/>
                </a:solidFill>
                <a:latin typeface="Symbol"/>
                <a:ea typeface="Symbol"/>
              </a:rPr>
              <a:t></a:t>
            </a:r>
            <a:r>
              <a:rPr b="0" lang="en-GB" sz="3600" spc="-1" strike="noStrike" baseline="-25000">
                <a:solidFill>
                  <a:srgbClr val="cc0000"/>
                </a:solidFill>
                <a:latin typeface="Arial"/>
              </a:rPr>
              <a:t>C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87280" y="3141720"/>
            <a:ext cx="7560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gaton detectors an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utrino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superbeams of second gener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and/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utrino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betabeam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and/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utrino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fac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8000" y="5734080"/>
            <a:ext cx="8748720" cy="74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while solving as much as possible intrinsic, mass hierarchy and </a:t>
            </a:r>
            <a:r>
              <a:rPr b="1" lang="el-GR" sz="2000" spc="-1" strike="noStrike">
                <a:solidFill>
                  <a:srgbClr val="33cc33"/>
                </a:solidFill>
                <a:latin typeface="Arial"/>
                <a:ea typeface="Arial"/>
              </a:rPr>
              <a:t>θ</a:t>
            </a:r>
            <a:r>
              <a:rPr b="1" lang="en-GB" sz="2000" spc="-1" strike="noStrike" baseline="-25000">
                <a:solidFill>
                  <a:srgbClr val="33cc33"/>
                </a:solidFill>
                <a:latin typeface="Arial"/>
                <a:ea typeface="Arial"/>
              </a:rPr>
              <a:t>23</a:t>
            </a:r>
            <a:r>
              <a:rPr b="1" lang="en-GB" sz="2000" spc="-1" strike="noStrike">
                <a:solidFill>
                  <a:srgbClr val="33cc33"/>
                </a:solidFill>
                <a:latin typeface="Arial"/>
                <a:ea typeface="Arial"/>
              </a:rPr>
              <a:t> ambigu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16000" y="3716280"/>
            <a:ext cx="0" cy="15843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16000" y="5300640"/>
            <a:ext cx="2160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16000" y="3716280"/>
            <a:ext cx="2160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" y="4221000"/>
            <a:ext cx="97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C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900000" y="1844640"/>
            <a:ext cx="2872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557360"/>
            <a:ext cx="9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Europe abs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6705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L &amp; PDAC [1/3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1" name=""/>
          <p:cNvGraphicFramePr/>
          <p:nvPr/>
        </p:nvGraphicFramePr>
        <p:xfrm>
          <a:off x="684360" y="1484280"/>
          <a:ext cx="7364160" cy="4708440"/>
        </p:xfrm>
        <a:graphic>
          <a:graphicData uri="http://schemas.openxmlformats.org/drawingml/2006/table">
            <a:tbl>
              <a:tblPr/>
              <a:tblGrid>
                <a:gridCol w="3447720"/>
                <a:gridCol w="1974960"/>
                <a:gridCol w="1941480"/>
              </a:tblGrid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on spec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1800" spc="-1" strike="noStrike" baseline="30000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Kinetic ener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G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 current during the pu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(30 ?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ean beam pow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ulse repetition 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se du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7 (0.76 ?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nch freque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ty cycle during the pu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 (5/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ms transverse emittan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 mr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ngitudinal rms emit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g M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2" name=""/>
          <p:cNvSpPr/>
          <p:nvPr/>
        </p:nvSpPr>
        <p:spPr>
          <a:xfrm>
            <a:off x="918000" y="914400"/>
            <a:ext cx="29710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cc"/>
                </a:solidFill>
                <a:latin typeface="Arial"/>
              </a:rPr>
              <a:t>SPL (CDR2)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95280" y="6381720"/>
            <a:ext cx="1512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. Garo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/>
          </p:nvPr>
        </p:nvSpPr>
        <p:spPr>
          <a:xfrm>
            <a:off x="533160" y="1371600"/>
            <a:ext cx="7543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[Extrapolation from PDAC based on the SPL CDR-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5" name=""/>
          <p:cNvGraphicFramePr/>
          <p:nvPr/>
        </p:nvGraphicFramePr>
        <p:xfrm>
          <a:off x="457200" y="1828800"/>
          <a:ext cx="7966080" cy="4581360"/>
        </p:xfrm>
        <a:graphic>
          <a:graphicData uri="http://schemas.openxmlformats.org/drawingml/2006/table">
            <a:tbl>
              <a:tblPr/>
              <a:tblGrid>
                <a:gridCol w="3728880"/>
                <a:gridCol w="2136960"/>
                <a:gridCol w="2100240"/>
              </a:tblGrid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 beam pow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Kinetic ener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G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se repetition 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ulse du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.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F freque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.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umber of bunches (bucket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8 (7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umber of protons per pulse (per bunch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.43 E14 (2.1 E1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umber of turns for inj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ms normalized transverse emittan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 mr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ongitudinal emit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V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6" name="PlaceHolder 2"/>
          <p:cNvSpPr>
            <a:spLocks noGrp="1"/>
          </p:cNvSpPr>
          <p:nvPr>
            <p:ph type="title"/>
          </p:nvPr>
        </p:nvSpPr>
        <p:spPr>
          <a:xfrm>
            <a:off x="533520" y="228600"/>
            <a:ext cx="6705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L &amp; PDAC [3/3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917640" y="914400"/>
            <a:ext cx="38671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cc"/>
                </a:solidFill>
                <a:latin typeface="Arial"/>
              </a:rPr>
              <a:t>SPL (CDR2) + PDAC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95280" y="6453360"/>
            <a:ext cx="1512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. Garo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987280" y="274680"/>
            <a:ext cx="3097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inac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0" name=""/>
          <p:cNvGraphicFramePr/>
          <p:nvPr/>
        </p:nvGraphicFramePr>
        <p:xfrm>
          <a:off x="1447920" y="3429000"/>
          <a:ext cx="5486400" cy="2679840"/>
        </p:xfrm>
        <a:graphic>
          <a:graphicData uri="http://schemas.openxmlformats.org/drawingml/2006/table">
            <a:tbl>
              <a:tblPr/>
              <a:tblGrid>
                <a:gridCol w="3657600"/>
                <a:gridCol w="1015920"/>
                <a:gridCol w="8128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on spec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netic energ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 current during the pu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se du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particles per pu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se repetition 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am pow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nch frequenc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2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H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601" name=""/>
          <p:cNvSpPr/>
          <p:nvPr/>
        </p:nvSpPr>
        <p:spPr>
          <a:xfrm>
            <a:off x="2843280" y="2924280"/>
            <a:ext cx="259056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NAC4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900000" y="1052640"/>
            <a:ext cx="75438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ocation: PS South Hall and ext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echnical Design report in preparation (publication mid-200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ossible planni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uthorization: December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nstruction: 2007-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etting-up &amp; commissioning: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vailability for physics (replacing Linac2): January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95280" y="6308640"/>
            <a:ext cx="1512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. Garo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86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 MeV test place (Linac4 front-e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380880" y="1752480"/>
            <a:ext cx="8381880" cy="4335120"/>
            <a:chOff x="380880" y="1752480"/>
            <a:chExt cx="8381880" cy="4335120"/>
          </a:xfrm>
        </p:grpSpPr>
        <p:pic>
          <p:nvPicPr>
            <p:cNvPr id="606" name="" descr=""/>
            <p:cNvPicPr/>
            <p:nvPr/>
          </p:nvPicPr>
          <p:blipFill>
            <a:blip r:embed="rId1"/>
            <a:srcRect l="19034" t="17343" r="3192" b="0"/>
            <a:stretch/>
          </p:blipFill>
          <p:spPr>
            <a:xfrm>
              <a:off x="380880" y="1752480"/>
              <a:ext cx="8381880" cy="433512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sp>
          <p:nvSpPr>
            <p:cNvPr id="607" name=""/>
            <p:cNvSpPr/>
            <p:nvPr/>
          </p:nvSpPr>
          <p:spPr>
            <a:xfrm>
              <a:off x="7163640" y="2661840"/>
              <a:ext cx="1033920" cy="337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H- </a:t>
              </a: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sour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757400" y="2661840"/>
              <a:ext cx="1058400" cy="337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IPHI RFQ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239640" y="3773520"/>
              <a:ext cx="1012680" cy="5806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Chopp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58080" y="2661840"/>
              <a:ext cx="1892160" cy="337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Measurement l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280520" y="4380120"/>
              <a:ext cx="1453320" cy="337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LEP Klystr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" name=""/>
          <p:cNvSpPr/>
          <p:nvPr/>
        </p:nvSpPr>
        <p:spPr>
          <a:xfrm>
            <a:off x="762120" y="838080"/>
            <a:ext cx="754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ngoing project supported by HIPPI (FP6) + IPHI (CEA+IN2P3+CER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ocation: PS South Hall extension  (future location in Linac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est with beam : 2007-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395280" y="6381720"/>
            <a:ext cx="1512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. Garo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468360" y="257040"/>
            <a:ext cx="8675640" cy="670572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179280" y="6308640"/>
            <a:ext cx="2627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.Zisman, NuFact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C: A monochromatic neutrino b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" descr=""/>
          <p:cNvPicPr/>
          <p:nvPr/>
        </p:nvPicPr>
        <p:blipFill>
          <a:blip r:embed="rId1"/>
          <a:stretch/>
        </p:blipFill>
        <p:spPr>
          <a:xfrm>
            <a:off x="2057400" y="4267080"/>
            <a:ext cx="4800600" cy="1889280"/>
          </a:xfrm>
          <a:prstGeom prst="rect">
            <a:avLst/>
          </a:prstGeom>
          <a:ln w="0">
            <a:noFill/>
          </a:ln>
        </p:spPr>
      </p:pic>
      <p:pic>
        <p:nvPicPr>
          <p:cNvPr id="618" name="" descr=""/>
          <p:cNvPicPr/>
          <p:nvPr/>
        </p:nvPicPr>
        <p:blipFill>
          <a:blip r:embed="rId2"/>
          <a:stretch/>
        </p:blipFill>
        <p:spPr>
          <a:xfrm>
            <a:off x="914400" y="1600200"/>
            <a:ext cx="3276720" cy="2292480"/>
          </a:xfrm>
          <a:prstGeom prst="rect">
            <a:avLst/>
          </a:prstGeom>
          <a:ln w="0">
            <a:noFill/>
          </a:ln>
        </p:spPr>
      </p:pic>
      <p:pic>
        <p:nvPicPr>
          <p:cNvPr id="619" name="" descr=""/>
          <p:cNvPicPr/>
          <p:nvPr/>
        </p:nvPicPr>
        <p:blipFill>
          <a:blip r:embed="rId3"/>
          <a:stretch/>
        </p:blipFill>
        <p:spPr>
          <a:xfrm>
            <a:off x="4724280" y="1676520"/>
            <a:ext cx="3200400" cy="224136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250920" y="6237360"/>
            <a:ext cx="259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.Lindroos, NuFact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000000"/>
                </a:solidFill>
                <a:latin typeface="Arial"/>
              </a:rPr>
              <a:t>15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ly stripped ions: The loss due to stripping smaller than 5% per minute in the decay 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e to produce 1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1 15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 atoms/second (1+) with 50 microAmps proton beam with existing technology (TRIUM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An annual rate of 10</a:t>
            </a:r>
            <a:r>
              <a:rPr b="0" lang="en-US" sz="2400" spc="-1" strike="noStrike" baseline="30000">
                <a:solidFill>
                  <a:srgbClr val="009900"/>
                </a:solidFill>
                <a:latin typeface="Arial"/>
              </a:rPr>
              <a:t>18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decays along one straight section seems as a realistic target value for a design st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Beyond EURISOL DS: Who will do the desig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s 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150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y the best isotop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50920" y="6237360"/>
            <a:ext cx="259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.Lindroos, NuFact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si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emitters (</a:t>
            </a: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5" name=""/>
          <p:cNvGraphicFramePr/>
          <p:nvPr/>
        </p:nvGraphicFramePr>
        <p:xfrm>
          <a:off x="1066680" y="1631880"/>
          <a:ext cx="7086600" cy="5149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631880"/>
                    <a:ext cx="7086600" cy="51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7" name=""/>
          <p:cNvSpPr txBox="1"/>
          <p:nvPr/>
        </p:nvSpPr>
        <p:spPr>
          <a:xfrm>
            <a:off x="304920" y="228600"/>
            <a:ext cx="609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si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emitters (</a:t>
            </a: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9" name=""/>
          <p:cNvGraphicFramePr/>
          <p:nvPr/>
        </p:nvGraphicFramePr>
        <p:xfrm>
          <a:off x="1143000" y="838080"/>
          <a:ext cx="6781680" cy="5545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838080"/>
                    <a:ext cx="6781680" cy="55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1" name=""/>
          <p:cNvSpPr txBox="1"/>
          <p:nvPr/>
        </p:nvSpPr>
        <p:spPr>
          <a:xfrm>
            <a:off x="304920" y="228600"/>
            <a:ext cx="609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32" name=""/>
          <p:cNvSpPr/>
          <p:nvPr/>
        </p:nvSpPr>
        <p:spPr>
          <a:xfrm>
            <a:off x="7213680" y="63504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/>
          <p:nvPr/>
        </p:nvSpPr>
        <p:spPr>
          <a:xfrm>
            <a:off x="1835280" y="33336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some personal thou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95280" y="974880"/>
            <a:ext cx="7991640" cy="60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in aim in the coming years: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13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CP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sign (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rope is absent from first round of superbe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n Europe regain strong position for 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roun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I think s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f we are able to start between 2015 and 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er+betabeams superior to T2K phase2 and arr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fore ( if we stick to “baseline” scenario ) so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rope can attract a worldwide collabo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detector and beams wait for the other to take first step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hing will hap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alternative is to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skip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econd round and prepare 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und (neutrino factory or higher energy bea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I personally find this risky for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Arial"/>
              </a:rPr>
              <a:t>We should try to find again a consensual road map for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24000" y="105264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24000" y="155736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24000" y="198900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95280" y="515772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627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187280" y="5373720"/>
            <a:ext cx="2808360" cy="4057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op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km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~ 0.5 E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Me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372360" y="620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ff"/>
                </a:solidFill>
                <a:latin typeface="Arial"/>
              </a:rPr>
              <a:t>(Initial desig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1187280" y="1413000"/>
            <a:ext cx="7129800" cy="45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 flipH="1">
            <a:off x="755280" y="5300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611280" y="3860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 flipH="1">
            <a:off x="684000" y="242100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979640" y="59500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3995640" y="59500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867280" y="595008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7885080" y="595008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187280" y="692280"/>
            <a:ext cx="712980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2124000" y="907920"/>
            <a:ext cx="5327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CLUDED BY CHOO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95280" y="508464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24000" y="3645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24000" y="2205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0" y="765000"/>
            <a:ext cx="11160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13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eg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4427640" y="638172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763640" y="6308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3708360" y="6308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5508720" y="630864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7667640" y="630864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1835280" y="2708280"/>
            <a:ext cx="2160360" cy="1225440"/>
          </a:xfrm>
          <a:custGeom>
            <a:avLst/>
            <a:gdLst/>
            <a:ahLst/>
            <a:rect l="l" t="t" r="r" b="b"/>
            <a:pathLst>
              <a:path w="1361" h="772">
                <a:moveTo>
                  <a:pt x="0" y="0"/>
                </a:moveTo>
                <a:cubicBezTo>
                  <a:pt x="113" y="185"/>
                  <a:pt x="227" y="370"/>
                  <a:pt x="454" y="499"/>
                </a:cubicBezTo>
                <a:cubicBezTo>
                  <a:pt x="681" y="628"/>
                  <a:pt x="1210" y="727"/>
                  <a:pt x="1361" y="772"/>
                </a:cubicBezTo>
              </a:path>
            </a:pathLst>
          </a:custGeom>
          <a:noFill/>
          <a:ln w="7632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995640" y="4149720"/>
            <a:ext cx="1440000" cy="647640"/>
          </a:xfrm>
          <a:custGeom>
            <a:avLst/>
            <a:gdLst/>
            <a:ahLst/>
            <a:rect l="l" t="t" r="r" b="b"/>
            <a:pathLst>
              <a:path w="907" h="408">
                <a:moveTo>
                  <a:pt x="0" y="0"/>
                </a:moveTo>
                <a:cubicBezTo>
                  <a:pt x="83" y="102"/>
                  <a:pt x="166" y="204"/>
                  <a:pt x="317" y="272"/>
                </a:cubicBezTo>
                <a:cubicBezTo>
                  <a:pt x="468" y="340"/>
                  <a:pt x="816" y="385"/>
                  <a:pt x="907" y="40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6804000" y="4724280"/>
            <a:ext cx="1513080" cy="720720"/>
          </a:xfrm>
          <a:custGeom>
            <a:avLst/>
            <a:gdLst/>
            <a:ahLst/>
            <a:rect l="l" t="t" r="r" b="b"/>
            <a:pathLst>
              <a:path w="907" h="408">
                <a:moveTo>
                  <a:pt x="0" y="0"/>
                </a:moveTo>
                <a:cubicBezTo>
                  <a:pt x="83" y="102"/>
                  <a:pt x="167" y="204"/>
                  <a:pt x="318" y="272"/>
                </a:cubicBezTo>
                <a:cubicBezTo>
                  <a:pt x="469" y="340"/>
                  <a:pt x="809" y="385"/>
                  <a:pt x="907" y="408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6156360" y="4941720"/>
            <a:ext cx="2016000" cy="505080"/>
          </a:xfrm>
          <a:custGeom>
            <a:avLst/>
            <a:gdLst/>
            <a:ahLst/>
            <a:rect l="l" t="t" r="r" b="b"/>
            <a:pathLst>
              <a:path w="1270" h="318">
                <a:moveTo>
                  <a:pt x="0" y="0"/>
                </a:moveTo>
                <a:cubicBezTo>
                  <a:pt x="53" y="64"/>
                  <a:pt x="106" y="129"/>
                  <a:pt x="318" y="182"/>
                </a:cubicBezTo>
                <a:cubicBezTo>
                  <a:pt x="530" y="235"/>
                  <a:pt x="1111" y="295"/>
                  <a:pt x="1270" y="318"/>
                </a:cubicBezTo>
              </a:path>
            </a:pathLst>
          </a:custGeom>
          <a:noFill/>
          <a:ln w="7632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6227640" y="5229360"/>
            <a:ext cx="1729080" cy="360360"/>
          </a:xfrm>
          <a:custGeom>
            <a:avLst/>
            <a:gdLst/>
            <a:ahLst/>
            <a:rect l="l" t="t" r="r" b="b"/>
            <a:pathLst>
              <a:path w="1089" h="227">
                <a:moveTo>
                  <a:pt x="0" y="0"/>
                </a:moveTo>
                <a:cubicBezTo>
                  <a:pt x="23" y="49"/>
                  <a:pt x="46" y="98"/>
                  <a:pt x="227" y="136"/>
                </a:cubicBezTo>
                <a:cubicBezTo>
                  <a:pt x="408" y="174"/>
                  <a:pt x="945" y="212"/>
                  <a:pt x="1089" y="227"/>
                </a:cubicBezTo>
              </a:path>
            </a:pathLst>
          </a:custGeom>
          <a:noFill/>
          <a:ln w="7632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2411280" y="2708280"/>
            <a:ext cx="20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cc"/>
                </a:solidFill>
                <a:latin typeface="Arial"/>
              </a:rPr>
              <a:t>Minos, Icarus, Opera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33cc"/>
                </a:solidFill>
                <a:latin typeface="Arial"/>
              </a:rPr>
              <a:t>Double Choo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140360" y="4149720"/>
            <a:ext cx="129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T2K1, No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5508720" y="4437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99"/>
                </a:solidFill>
                <a:latin typeface="Arial"/>
              </a:rPr>
              <a:t>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5651640" y="5300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cc00"/>
                </a:solidFill>
                <a:latin typeface="Symbol"/>
                <a:ea typeface="Symbol"/>
              </a:rPr>
              <a:t></a:t>
            </a:r>
            <a:r>
              <a:rPr b="1" lang="en-GB" sz="18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cc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7380360" y="4869000"/>
            <a:ext cx="7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2K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amination vs. Smea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4267080" cy="4091040"/>
          </a:xfrm>
          <a:prstGeom prst="rect">
            <a:avLst/>
          </a:prstGeom>
          <a:ln w="0">
            <a:noFill/>
          </a:ln>
        </p:spPr>
      </p:pic>
      <p:pic>
        <p:nvPicPr>
          <p:cNvPr id="670" name="" descr=""/>
          <p:cNvPicPr/>
          <p:nvPr/>
        </p:nvPicPr>
        <p:blipFill>
          <a:blip r:embed="rId2"/>
          <a:stretch/>
        </p:blipFill>
        <p:spPr>
          <a:xfrm>
            <a:off x="4724280" y="1143000"/>
            <a:ext cx="4186440" cy="4106880"/>
          </a:xfrm>
          <a:prstGeom prst="rect">
            <a:avLst/>
          </a:prstGeom>
          <a:ln w="0">
            <a:noFill/>
          </a:ln>
        </p:spPr>
      </p:pic>
      <p:sp>
        <p:nvSpPr>
          <p:cNvPr id="671" name=""/>
          <p:cNvSpPr/>
          <p:nvPr/>
        </p:nvSpPr>
        <p:spPr>
          <a:xfrm>
            <a:off x="750600" y="5367240"/>
            <a:ext cx="21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-ring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like 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5795280" y="5410080"/>
            <a:ext cx="21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-ring e-like 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096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ff"/>
                </a:solidFill>
                <a:latin typeface="Arial"/>
              </a:rPr>
              <a:t>PMT size &lt;=&gt; cos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amete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20“     &lt;=&gt;    12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jected area      1660                    615    cm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QE(typ)     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20                      24   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           60                      70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ff"/>
                </a:solidFill>
                <a:latin typeface="Arial"/>
              </a:rPr>
              <a:t>SxQExCE              1                 0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468360" y="3789360"/>
            <a:ext cx="799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st                       2500                   800  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68360" y="4292640"/>
            <a:ext cx="867564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cc0000"/>
                </a:solidFill>
                <a:latin typeface="Arial"/>
              </a:rPr>
              <a:t>Cost/</a:t>
            </a:r>
            <a:r>
              <a:rPr b="0" i="1" lang="de-DE" sz="2400" spc="-1" strike="noStrike">
                <a:solidFill>
                  <a:srgbClr val="cc0000"/>
                </a:solidFill>
                <a:latin typeface="Tahoma"/>
              </a:rPr>
              <a:t>cm²</a:t>
            </a:r>
            <a:r>
              <a:rPr b="0" i="1" lang="de-DE" sz="2400" spc="-1" strike="noStrike">
                <a:solidFill>
                  <a:srgbClr val="cc0000"/>
                </a:solidFill>
                <a:latin typeface="Arial"/>
              </a:rPr>
              <a:t> per useful PE</a:t>
            </a:r>
            <a:r>
              <a:rPr b="0" i="1" lang="de-DE" sz="2400" spc="-1" strike="noStrike" baseline="-25000">
                <a:solidFill>
                  <a:srgbClr val="cc0000"/>
                </a:solidFill>
                <a:latin typeface="Arial"/>
              </a:rPr>
              <a:t>U</a:t>
            </a:r>
            <a:r>
              <a:rPr b="0" i="1" lang="de-DE" sz="2400" spc="-1" strike="noStrike">
                <a:solidFill>
                  <a:srgbClr val="cc0000"/>
                </a:solidFill>
                <a:latin typeface="Arial"/>
              </a:rPr>
              <a:t>= </a:t>
            </a:r>
            <a:r>
              <a:rPr b="0" lang="de-DE" sz="2400" spc="-1" strike="noStrike">
                <a:solidFill>
                  <a:srgbClr val="cc0000"/>
                </a:solidFill>
                <a:latin typeface="Tahoma"/>
              </a:rPr>
              <a:t>cost</a:t>
            </a:r>
            <a:r>
              <a:rPr b="0" i="1" lang="de-DE" sz="2400" spc="-1" strike="noStrike">
                <a:solidFill>
                  <a:srgbClr val="cc0000"/>
                </a:solidFill>
                <a:latin typeface="Arial"/>
              </a:rPr>
              <a:t>/(</a:t>
            </a:r>
            <a:r>
              <a:rPr b="0" lang="de-DE" sz="2400" spc="-1" strike="noStrike">
                <a:solidFill>
                  <a:srgbClr val="cc0000"/>
                </a:solidFill>
                <a:latin typeface="Tahoma"/>
              </a:rPr>
              <a:t>cm²</a:t>
            </a:r>
            <a:r>
              <a:rPr b="0" i="1" lang="de-DE" sz="2400" spc="-1" strike="noStrike">
                <a:solidFill>
                  <a:srgbClr val="cc0000"/>
                </a:solidFill>
                <a:latin typeface="Arial"/>
              </a:rPr>
              <a:t>xQEx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de-DE" sz="2400" spc="-1" strike="noStrike">
                <a:solidFill>
                  <a:srgbClr val="cc0000"/>
                </a:solidFill>
                <a:latin typeface="Arial"/>
              </a:rPr>
              <a:t>12.6                      7.7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€                       </a:t>
            </a:r>
            <a:r>
              <a:rPr b="0" lang="de-DE" sz="2400" spc="-1" strike="noStrike">
                <a:solidFill>
                  <a:srgbClr val="0000ff"/>
                </a:solidFill>
                <a:latin typeface=""/>
              </a:rPr>
              <a:t>→   1 20-inch PMT replaced by 2 12-inch PMTs :                .   </a:t>
            </a:r>
            <a:r>
              <a:rPr b="1" lang="de-DE" sz="2000" spc="-1" strike="noStrike">
                <a:solidFill>
                  <a:srgbClr val="0000ff"/>
                </a:solidFill>
                <a:latin typeface=""/>
              </a:rPr>
              <a:t>same number of PE, better SE, better timing, better granularity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"/>
              </a:rPr>
              <a:t>         </a:t>
            </a:r>
            <a:r>
              <a:rPr b="0" lang="de-DE" sz="2400" spc="-1" strike="noStrike">
                <a:solidFill>
                  <a:srgbClr val="cc0000"/>
                </a:solidFill>
                <a:latin typeface=""/>
              </a:rPr>
              <a:t>Saving (</a:t>
            </a:r>
            <a:r>
              <a:rPr b="0" lang="de-DE" sz="1800" spc="-1" strike="noStrike">
                <a:solidFill>
                  <a:srgbClr val="cc0000"/>
                </a:solidFill>
                <a:latin typeface="Arial"/>
              </a:rPr>
              <a:t>per 20-inch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cc0000"/>
                </a:solidFill>
                <a:latin typeface=""/>
              </a:rPr>
              <a:t>= 900 </a:t>
            </a:r>
            <a:r>
              <a:rPr b="0" lang="de-DE" sz="1800" spc="-1" strike="noStrike">
                <a:solidFill>
                  <a:srgbClr val="cc0000"/>
                </a:solidFill>
                <a:latin typeface="Arial"/>
              </a:rPr>
              <a:t>€  </a:t>
            </a:r>
            <a:r>
              <a:rPr b="0" lang="de-DE" sz="3200" spc="-1" strike="noStrike">
                <a:solidFill>
                  <a:srgbClr val="cc0000"/>
                </a:solidFill>
                <a:latin typeface="Arial"/>
              </a:rPr>
              <a:t>-</a:t>
            </a:r>
            <a:r>
              <a:rPr b="0" lang="de-DE" sz="2400" spc="-1" strike="noStrike">
                <a:solidFill>
                  <a:srgbClr val="cc0000"/>
                </a:solidFill>
                <a:latin typeface="Arial"/>
              </a:rPr>
              <a:t> electronics extra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324000" y="6481800"/>
            <a:ext cx="2519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f Photonis, NNN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35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ff"/>
                </a:solidFill>
                <a:latin typeface="Arial"/>
              </a:rPr>
              <a:t>New pump capacity need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843120" y="1295280"/>
            <a:ext cx="7781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elivery over 6 yea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300 working days/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611280" y="2637000"/>
            <a:ext cx="82818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20“ tube</a:t>
            </a:r>
            <a:r>
              <a:rPr b="0" i="1" lang="de-DE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200,000/6/300 =&gt; 112 good tubes / yield 0.7 = 160 starts/day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(1 start/pump/day) =&gt; 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160 pumps ( € 30M or s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12“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400,000/6/300 =&gt; 222 good tubes / yield 0.7 = 320 starts/da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A multi-array computerised pump at Photonis handles 20 starts/day   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=&gt;  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16 pumps   ( € 5M or s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24000" y="6308640"/>
            <a:ext cx="2519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f Photonis, NNN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68360" y="144360"/>
            <a:ext cx="8351640" cy="668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135000"/>
            <a:ext cx="8748720" cy="6723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859280" y="522936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September 2005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80880" y="914400"/>
            <a:ext cx="85345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L main goal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crease the performance of the CERN high energy accelerators (PS, SPS &amp; LH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ress the needs of future experiments with neutrinos and radio-active ion be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609480" y="2057400"/>
            <a:ext cx="8229600" cy="3505320"/>
            <a:chOff x="609480" y="2057400"/>
            <a:chExt cx="8229600" cy="3505320"/>
          </a:xfrm>
        </p:grpSpPr>
        <p:pic>
          <p:nvPicPr>
            <p:cNvPr id="122" name="" descr=""/>
            <p:cNvPicPr/>
            <p:nvPr/>
          </p:nvPicPr>
          <p:blipFill>
            <a:blip r:embed="rId1"/>
            <a:stretch/>
          </p:blipFill>
          <p:spPr>
            <a:xfrm>
              <a:off x="609480" y="2057400"/>
              <a:ext cx="8229600" cy="343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609480" y="4876920"/>
              <a:ext cx="441972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09480" y="5486400"/>
            <a:ext cx="8077320" cy="580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resent R&amp;D programme concentrates on low-energy (Linac4) items, wherever possible in collaboration with other laborator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640" y="260280"/>
            <a:ext cx="6705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L current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067280" y="4797360"/>
            <a:ext cx="1225440" cy="459720"/>
          </a:xfrm>
          <a:prstGeom prst="rect">
            <a:avLst/>
          </a:prstGeom>
          <a:solidFill>
            <a:srgbClr val="66ccff"/>
          </a:solidFill>
          <a:ln w="9360">
            <a:solidFill>
              <a:srgbClr val="66cc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 M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6237360"/>
            <a:ext cx="2016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om R.Garo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5T08:09:34Z</dcterms:created>
  <dc:creator>jbouchez</dc:creator>
  <dc:description/>
  <dc:language>en-US</dc:language>
  <cp:lastModifiedBy>jbouchez</cp:lastModifiedBy>
  <dcterms:modified xsi:type="dcterms:W3CDTF">2005-10-18T08:42:52Z</dcterms:modified>
  <cp:revision>34</cp:revision>
  <dc:subject/>
  <dc:title>What we know and what we want to know</dc:title>
</cp:coreProperties>
</file>